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25.png" ContentType="image/png"/>
  <Override PartName="/ppt/media/image10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28.png" ContentType="image/png"/>
  <Override PartName="/ppt/media/image1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714-6D33-49E6-9D71-E3ACA403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E4C4-2DE8-4204-941D-8E95E3B0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8C50-1326-4C92-9833-2817D922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686D-C549-4A40-B51C-9E44ED30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7768-DCC7-41D9-B077-F3679B68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B53D-0EE4-4BE6-8E8F-EB4ADB82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87AA-4A44-46B2-924D-3BF4C67D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E500-2B32-4BA2-A5A9-CD817669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9B86-E818-404D-BEB2-F49C3029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3F8B-3548-4065-8B84-33D3DDDB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EC5A-4EC3-4F58-BB56-CEF80C1D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1714-49A6-4011-A340-D525AFA1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AD83-623D-47B7-B720-5834806B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3C0C-E227-4A20-BA1C-AA7FEB72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074C-DB8C-4869-AEFC-2330BD29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0235-9F1A-4766-8DE6-42B50E3A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1151-4130-41BA-B5EC-C87940F1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A5BA-A6C0-4F87-B22D-04BADCF5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8701-FD27-474F-84F9-EAFF643E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5BF-CE01-4827-9C50-B1123809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C94-8DA4-4509-8D11-10E80D44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732-426D-4A0A-98F3-24BF235E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3FD2-A975-41BB-A325-A7F486B9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C3A-EDB8-45E9-9AD5-34D653BE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856C-0B69-4FBD-817C-46177F39C9AB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CC14-308A-4AA5-8D48-B4B1A9404753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33560" y="914400"/>
            <a:ext cx="4724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he Indonesian Environmental Digital Library Network:</a:t>
            </a:r>
            <a:br>
              <a:rPr sz="24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aring Informasi dan Pengetahuan tentang Lingkungan Hidu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 ismail@itb.ac.id 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Lingkungan Hid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3 Agustus 2002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03" name="BD06662_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5756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uju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gembangkan softwar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pen-Sour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GDL, Ganesha Digital Library) berbasis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regional technolo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aring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omunit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Knowledge Shar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 Indonesi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sialisasi, promosi, dan support terhadap komunita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manfaatan pengetahuan untuk bangsa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E02002_" descr=""/>
          <p:cNvPicPr/>
          <p:nvPr/>
        </p:nvPicPr>
        <p:blipFill>
          <a:blip r:embed="rId1"/>
          <a:stretch/>
        </p:blipFill>
        <p:spPr>
          <a:xfrm>
            <a:off x="6134040" y="228600"/>
            <a:ext cx="1978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laksana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khir 199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rotipe software GDL 3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gustus 200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ITB Digital Library (GDL 3.0) + Pembentukan forum IndonesiaDL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/d 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engembangan GDL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GDL-Network (network pertama di IndonesiaDL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Maret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eeting, inisialisasi pembentukan sub-sub network (kesehatan, pertanian, lingkungan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ara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alisasi network-of-networks, gabung ke Open Archive Initia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BD04972_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21621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kator Keberhasil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oftware / Teknolo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, open source, &gt; 1500 x downl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tandar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etadata, OA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Net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 Network (pertama), sub-networ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omunita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donesiaDL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artner Nasional &amp; Internasion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0 aktif; 80 terdaft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Contents / Koleksi Digit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5000+ metadata, f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enggun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4500+ us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erjasam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Mee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 kali meeting tahun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Awar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2 nasional; 3 interna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E01832_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9047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ta Partner/Node Nasional, IndonesiaDL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de di Luar Nege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NGO di Pakis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orang mahasiswa (personal) di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tor IDRC, Singap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cess Centers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ing and Disse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6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057400" y="266688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514600" y="4267080"/>
            <a:ext cx="1447920" cy="914400"/>
            <a:chOff x="2514600" y="4267080"/>
            <a:chExt cx="1447920" cy="914400"/>
          </a:xfrm>
        </p:grpSpPr>
        <p:sp>
          <p:nvSpPr>
            <p:cNvPr id="183" name=""/>
            <p:cNvSpPr/>
            <p:nvPr/>
          </p:nvSpPr>
          <p:spPr>
            <a:xfrm>
              <a:off x="251460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665440" y="4267080"/>
              <a:ext cx="865080" cy="851400"/>
              <a:chOff x="2665440" y="4267080"/>
              <a:chExt cx="865080" cy="85140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2847600" y="4267080"/>
                <a:ext cx="398520" cy="531720"/>
                <a:chOff x="2847600" y="4267080"/>
                <a:chExt cx="398520" cy="5317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84760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7440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09960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11220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11220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1878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1500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1122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6544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4876920" y="4419720"/>
            <a:ext cx="1447560" cy="914400"/>
            <a:chOff x="4876920" y="4419720"/>
            <a:chExt cx="1447560" cy="914400"/>
          </a:xfrm>
        </p:grpSpPr>
        <p:sp>
          <p:nvSpPr>
            <p:cNvPr id="196" name=""/>
            <p:cNvSpPr/>
            <p:nvPr/>
          </p:nvSpPr>
          <p:spPr>
            <a:xfrm>
              <a:off x="487692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181480" y="4419720"/>
              <a:ext cx="755280" cy="851760"/>
              <a:chOff x="5181480" y="4419720"/>
              <a:chExt cx="755280" cy="85176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5308200" y="4419720"/>
                <a:ext cx="398520" cy="532080"/>
                <a:chOff x="5308200" y="4419720"/>
                <a:chExt cx="398520" cy="532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30820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53500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6020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57280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7280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6484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6106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5728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518148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259092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200400" y="403848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429000"/>
            <a:ext cx="1447920" cy="533520"/>
          </a:xfrm>
          <a:prstGeom prst="ellipse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0440" y="365112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86200" y="1828800"/>
            <a:ext cx="1023840" cy="1568880"/>
            <a:chOff x="3886200" y="182880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388620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391104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1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1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2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3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4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5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5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6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26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27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27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28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28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28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29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29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29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0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0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1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2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3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3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7" name="pc" descr=""/>
          <p:cNvPicPr/>
          <p:nvPr/>
        </p:nvPicPr>
        <p:blipFill>
          <a:blip r:embed="rId3"/>
          <a:stretch/>
        </p:blipFill>
        <p:spPr>
          <a:xfrm>
            <a:off x="49528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38" name="pc" descr=""/>
          <p:cNvPicPr/>
          <p:nvPr/>
        </p:nvPicPr>
        <p:blipFill>
          <a:blip r:embed="rId4"/>
          <a:stretch/>
        </p:blipFill>
        <p:spPr>
          <a:xfrm>
            <a:off x="7620120" y="49528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39" name="pc" descr=""/>
          <p:cNvPicPr/>
          <p:nvPr/>
        </p:nvPicPr>
        <p:blipFill>
          <a:blip r:embed="rId5"/>
          <a:stretch/>
        </p:blipFill>
        <p:spPr>
          <a:xfrm>
            <a:off x="6629400" y="42670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0" name="pc" descr=""/>
          <p:cNvPicPr/>
          <p:nvPr/>
        </p:nvPicPr>
        <p:blipFill>
          <a:blip r:embed="rId6"/>
          <a:stretch/>
        </p:blipFill>
        <p:spPr>
          <a:xfrm>
            <a:off x="6019920" y="47242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1" name="pc" descr=""/>
          <p:cNvPicPr/>
          <p:nvPr/>
        </p:nvPicPr>
        <p:blipFill>
          <a:blip r:embed="rId7"/>
          <a:stretch/>
        </p:blipFill>
        <p:spPr>
          <a:xfrm>
            <a:off x="5867280" y="594360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2" name="pc" descr=""/>
          <p:cNvPicPr/>
          <p:nvPr/>
        </p:nvPicPr>
        <p:blipFill>
          <a:blip r:embed="rId8"/>
          <a:stretch/>
        </p:blipFill>
        <p:spPr>
          <a:xfrm>
            <a:off x="67816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43" name="laptop" descr=""/>
          <p:cNvPicPr/>
          <p:nvPr/>
        </p:nvPicPr>
        <p:blipFill>
          <a:blip r:embed="rId9"/>
          <a:stretch/>
        </p:blipFill>
        <p:spPr>
          <a:xfrm>
            <a:off x="6400800" y="3048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4" name="laptop" descr=""/>
          <p:cNvPicPr/>
          <p:nvPr/>
        </p:nvPicPr>
        <p:blipFill>
          <a:blip r:embed="rId10"/>
          <a:stretch/>
        </p:blipFill>
        <p:spPr>
          <a:xfrm>
            <a:off x="6553080" y="1905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5" name="laptop" descr=""/>
          <p:cNvPicPr/>
          <p:nvPr/>
        </p:nvPicPr>
        <p:blipFill>
          <a:blip r:embed="rId11"/>
          <a:stretch/>
        </p:blipFill>
        <p:spPr>
          <a:xfrm>
            <a:off x="7620120" y="2209680"/>
            <a:ext cx="799920" cy="639720"/>
          </a:xfrm>
          <a:prstGeom prst="rect">
            <a:avLst/>
          </a:prstGeom>
          <a:ln w="0">
            <a:noFill/>
          </a:ln>
        </p:spPr>
      </p:pic>
      <p:pic>
        <p:nvPicPr>
          <p:cNvPr id="346" name="laptop" descr=""/>
          <p:cNvPicPr/>
          <p:nvPr/>
        </p:nvPicPr>
        <p:blipFill>
          <a:blip r:embed="rId12"/>
          <a:stretch/>
        </p:blipFill>
        <p:spPr>
          <a:xfrm>
            <a:off x="8153280" y="3657600"/>
            <a:ext cx="800280" cy="639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349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355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360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pengikat jaringa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etadata Standar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tandard Dublin Core (internasional) yang dimodifikasi. Dibicarakan di forum IndonesiaDL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iap Network dalam IndonesiaDLN dapat memiliki standard metadata sendir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otokol Komunikasi Stand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OAI, Open Archive Initiatives Protocol, http://www.openarchives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gdlhub" descr=""/>
          <p:cNvPicPr/>
          <p:nvPr/>
        </p:nvPicPr>
        <p:blipFill>
          <a:blip r:embed="rId1"/>
          <a:stretch/>
        </p:blipFill>
        <p:spPr>
          <a:xfrm>
            <a:off x="0" y="0"/>
            <a:ext cx="509436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categories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3962520" cy="1315800"/>
          </a:xfrm>
          <a:prstGeom prst="rect">
            <a:avLst/>
          </a:prstGeom>
          <a:ln w="0">
            <a:noFill/>
          </a:ln>
        </p:spPr>
      </p:pic>
      <p:pic>
        <p:nvPicPr>
          <p:cNvPr id="366" name="detail" descr=""/>
          <p:cNvPicPr/>
          <p:nvPr/>
        </p:nvPicPr>
        <p:blipFill>
          <a:blip r:embed="rId3"/>
          <a:stretch/>
        </p:blipFill>
        <p:spPr>
          <a:xfrm>
            <a:off x="5151600" y="2209680"/>
            <a:ext cx="3992400" cy="43434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52280" y="3733920"/>
            <a:ext cx="1828800" cy="15228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981080" y="304560"/>
            <a:ext cx="3200400" cy="3581640"/>
            <a:chOff x="1981080" y="304560"/>
            <a:chExt cx="3200400" cy="3581640"/>
          </a:xfrm>
        </p:grpSpPr>
        <p:sp>
          <p:nvSpPr>
            <p:cNvPr id="369" name=""/>
            <p:cNvSpPr/>
            <p:nvPr/>
          </p:nvSpPr>
          <p:spPr>
            <a:xfrm flipV="1">
              <a:off x="1981080" y="304560"/>
              <a:ext cx="3200400" cy="3429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981080" y="1600200"/>
              <a:ext cx="3200400" cy="2286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304920"/>
            <a:ext cx="2133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19810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438280" y="990720"/>
          <a:ext cx="6438960" cy="56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990720"/>
                    <a:ext cx="643896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6781680" y="838080"/>
            <a:ext cx="1143000" cy="5791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’ Jo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55760" y="141120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743200" y="1447920"/>
          <a:ext cx="548640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447920"/>
                    <a:ext cx="548640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kilas Tentang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3200040"/>
            <a:ext cx="7086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66"/>
                </a:solidFill>
                <a:latin typeface="Arial Black"/>
              </a:rPr>
              <a:t>Indonesia</a:t>
            </a:r>
            <a:r>
              <a:rPr b="1" lang="en-US" sz="6600" spc="-1" strike="noStrike">
                <a:solidFill>
                  <a:srgbClr val="000066"/>
                </a:solidFill>
                <a:latin typeface="Arial Black"/>
              </a:rPr>
              <a:t>DLN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79440" y="14875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048120" y="1371600"/>
          <a:ext cx="546264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371600"/>
                    <a:ext cx="546264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anca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ndonesian Environmental Digital Library Network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IEDL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 IE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jadi wahana untuk saling berbagi informasi dan pengetahuan tentang lingkungan hidup di Indonesia, melalui sebuah jaringan digital library yang terbu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 flipH="1" flipV="1">
            <a:off x="6781680" y="3657600"/>
            <a:ext cx="990720" cy="12952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6705360" y="3809520"/>
            <a:ext cx="228600" cy="114300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2590920"/>
            <a:ext cx="685800" cy="12952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1600200"/>
            <a:ext cx="5333760" cy="4572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E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50292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arped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981080" y="4724280"/>
            <a:ext cx="636840" cy="436680"/>
            <a:chOff x="1981080" y="4724280"/>
            <a:chExt cx="636840" cy="436680"/>
          </a:xfrm>
        </p:grpSpPr>
        <p:sp>
          <p:nvSpPr>
            <p:cNvPr id="395" name=""/>
            <p:cNvSpPr/>
            <p:nvPr/>
          </p:nvSpPr>
          <p:spPr>
            <a:xfrm>
              <a:off x="2113560" y="4735800"/>
              <a:ext cx="460800" cy="2638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69360" y="4772160"/>
              <a:ext cx="320760" cy="1864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7600" y="5011560"/>
              <a:ext cx="283320" cy="306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94200" y="4802400"/>
              <a:ext cx="116280" cy="586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73120" y="4875120"/>
              <a:ext cx="72360" cy="55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91880" y="5079960"/>
              <a:ext cx="621360" cy="77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14640" y="5034960"/>
              <a:ext cx="475920" cy="7560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38840" y="4999320"/>
              <a:ext cx="258480" cy="331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42960" y="4782600"/>
              <a:ext cx="120600" cy="2232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19040" y="4964400"/>
              <a:ext cx="230040" cy="219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42360" y="4758480"/>
              <a:ext cx="356040" cy="19296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18480" y="5047560"/>
              <a:ext cx="153000" cy="324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76800" y="5062680"/>
              <a:ext cx="74880" cy="194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86480" y="5135040"/>
              <a:ext cx="619560" cy="23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07440" y="5024160"/>
              <a:ext cx="490680" cy="22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72920" y="5026320"/>
              <a:ext cx="30960" cy="8676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14520" y="5049720"/>
              <a:ext cx="14400" cy="29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20640" y="5045760"/>
              <a:ext cx="153360" cy="72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73560" y="5061600"/>
              <a:ext cx="86400" cy="1440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7560" y="5070240"/>
              <a:ext cx="468720" cy="1908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07720" y="5128200"/>
              <a:ext cx="426960" cy="1476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59240" y="5086440"/>
              <a:ext cx="56520" cy="486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85160" y="5140080"/>
              <a:ext cx="32760" cy="183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96560" y="5146920"/>
              <a:ext cx="599400" cy="140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09240" y="5088960"/>
              <a:ext cx="319680" cy="190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3040" y="5106600"/>
              <a:ext cx="232560" cy="1404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73920" y="5102280"/>
              <a:ext cx="70200" cy="756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89760" y="5112720"/>
              <a:ext cx="70920" cy="684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95520" y="5124600"/>
              <a:ext cx="81720" cy="828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98080" y="4724280"/>
              <a:ext cx="436320" cy="6876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49160" y="4729680"/>
              <a:ext cx="44640" cy="388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19640" y="4763160"/>
              <a:ext cx="75240" cy="22932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99840" y="4744800"/>
              <a:ext cx="48600" cy="2077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97720" y="4798800"/>
              <a:ext cx="83880" cy="193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89880" y="4993560"/>
              <a:ext cx="274320" cy="97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69960" y="4994280"/>
              <a:ext cx="51840" cy="108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17600" y="4996080"/>
              <a:ext cx="41760" cy="3276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93480" y="5026320"/>
              <a:ext cx="20160" cy="147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22440" y="4995720"/>
              <a:ext cx="60480" cy="2124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91560" y="5011560"/>
              <a:ext cx="9720" cy="1908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12200" y="4971600"/>
              <a:ext cx="12960" cy="1620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13640" y="4961520"/>
              <a:ext cx="241920" cy="136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48720" y="4962240"/>
              <a:ext cx="9360" cy="183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99040" y="4969440"/>
              <a:ext cx="9000" cy="140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53320" y="4969080"/>
              <a:ext cx="11160" cy="140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01120" y="4968360"/>
              <a:ext cx="10440" cy="1476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55400" y="4969800"/>
              <a:ext cx="11520" cy="1548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88960" y="4772520"/>
              <a:ext cx="86760" cy="2124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6320" y="4838760"/>
              <a:ext cx="69840" cy="1148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15440" y="4936680"/>
              <a:ext cx="249120" cy="212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8360" y="4767120"/>
              <a:ext cx="51480" cy="17856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5040" y="5077440"/>
              <a:ext cx="87840" cy="5832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81080" y="5131800"/>
              <a:ext cx="25560" cy="205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45960" y="4764960"/>
              <a:ext cx="340560" cy="540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68280" y="4781160"/>
              <a:ext cx="138960" cy="90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04200" y="5042880"/>
              <a:ext cx="12240" cy="3024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228600" y="3124080"/>
            <a:ext cx="2514600" cy="83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Pelan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24080" y="52578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KL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572000" y="4876920"/>
            <a:ext cx="609480" cy="512640"/>
            <a:chOff x="4572000" y="4876920"/>
            <a:chExt cx="609480" cy="512640"/>
          </a:xfrm>
        </p:grpSpPr>
        <p:sp>
          <p:nvSpPr>
            <p:cNvPr id="454" name=""/>
            <p:cNvSpPr/>
            <p:nvPr/>
          </p:nvSpPr>
          <p:spPr>
            <a:xfrm>
              <a:off x="4698720" y="4890240"/>
              <a:ext cx="44100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52360" y="4933440"/>
              <a:ext cx="30708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98080" y="5214240"/>
              <a:ext cx="2710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76120" y="4968720"/>
              <a:ext cx="111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47120" y="5054040"/>
              <a:ext cx="694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82440" y="5294160"/>
              <a:ext cx="5947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99800" y="5241600"/>
              <a:ext cx="4554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18600" y="5199840"/>
              <a:ext cx="2473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14080" y="4945680"/>
              <a:ext cx="115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9880" y="5158800"/>
              <a:ext cx="220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26440" y="4916880"/>
              <a:ext cx="34056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90680" y="5256360"/>
              <a:ext cx="14616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46480" y="5274000"/>
              <a:ext cx="7164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77040" y="5359320"/>
              <a:ext cx="59292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92960" y="5228640"/>
              <a:ext cx="46944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38280" y="5231520"/>
              <a:ext cx="2952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86720" y="5258880"/>
              <a:ext cx="1368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92480" y="5254200"/>
              <a:ext cx="14688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43600" y="5272920"/>
              <a:ext cx="8280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64520" y="5283000"/>
              <a:ext cx="448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97560" y="5351040"/>
              <a:ext cx="40860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25320" y="5302080"/>
              <a:ext cx="5400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50160" y="5365080"/>
              <a:ext cx="3132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86760" y="5373000"/>
              <a:ext cx="57348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94400" y="5304960"/>
              <a:ext cx="306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79280" y="5325480"/>
              <a:ext cx="222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43960" y="5320800"/>
              <a:ext cx="669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58720" y="5333040"/>
              <a:ext cx="6804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64480" y="5347080"/>
              <a:ext cx="7812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83960" y="4876920"/>
              <a:ext cx="41760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15600" y="4883400"/>
              <a:ext cx="42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87520" y="4922640"/>
              <a:ext cx="7200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68440" y="4901040"/>
              <a:ext cx="464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83600" y="4964400"/>
              <a:ext cx="8028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71800" y="5193000"/>
              <a:ext cx="262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40000" y="5193720"/>
              <a:ext cx="4968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98080" y="5196240"/>
              <a:ext cx="3996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75400" y="5231520"/>
              <a:ext cx="194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94280" y="5195520"/>
              <a:ext cx="5796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0520" y="5214240"/>
              <a:ext cx="93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93400" y="5167080"/>
              <a:ext cx="1224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94480" y="5155200"/>
              <a:ext cx="23148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19840" y="5156280"/>
              <a:ext cx="90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71960" y="5164560"/>
              <a:ext cx="86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28400" y="5164200"/>
              <a:ext cx="1080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78360" y="5163120"/>
              <a:ext cx="1008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4440" y="5165280"/>
              <a:ext cx="1080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62240" y="4933440"/>
              <a:ext cx="8316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30040" y="5011200"/>
              <a:ext cx="669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96280" y="5126400"/>
              <a:ext cx="23868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19480" y="4926960"/>
              <a:ext cx="4932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75600" y="5291280"/>
              <a:ext cx="8388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72000" y="5355000"/>
              <a:ext cx="241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29680" y="4924800"/>
              <a:ext cx="32616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51280" y="4943520"/>
              <a:ext cx="1328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90080" y="5250960"/>
              <a:ext cx="1188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657600" y="3048120"/>
            <a:ext cx="609480" cy="609480"/>
            <a:chOff x="3657600" y="3048120"/>
            <a:chExt cx="609480" cy="609480"/>
          </a:xfrm>
        </p:grpSpPr>
        <p:sp>
          <p:nvSpPr>
            <p:cNvPr id="511" name=""/>
            <p:cNvSpPr/>
            <p:nvPr/>
          </p:nvSpPr>
          <p:spPr>
            <a:xfrm>
              <a:off x="3784320" y="3063960"/>
              <a:ext cx="441000" cy="3682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37960" y="3115080"/>
              <a:ext cx="307080" cy="2602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3680" y="3449160"/>
              <a:ext cx="271080" cy="4284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61720" y="3157200"/>
              <a:ext cx="111240" cy="82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32720" y="3258720"/>
              <a:ext cx="69480" cy="781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68040" y="3544200"/>
              <a:ext cx="594720" cy="1080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85400" y="3481560"/>
              <a:ext cx="455400" cy="10548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04200" y="3431880"/>
              <a:ext cx="247320" cy="4644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99680" y="3129840"/>
              <a:ext cx="115200" cy="3114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85480" y="3382920"/>
              <a:ext cx="220320" cy="306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12040" y="3095640"/>
              <a:ext cx="340560" cy="2692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76280" y="3499200"/>
              <a:ext cx="146160" cy="450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32080" y="3520440"/>
              <a:ext cx="71640" cy="2736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62640" y="3621600"/>
              <a:ext cx="592920" cy="32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78560" y="3466440"/>
              <a:ext cx="469440" cy="31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23880" y="3469680"/>
              <a:ext cx="29520" cy="12132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72320" y="3502440"/>
              <a:ext cx="13680" cy="4068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78080" y="3496680"/>
              <a:ext cx="146880" cy="1008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129200" y="3518640"/>
              <a:ext cx="82800" cy="2016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0120" y="3531240"/>
              <a:ext cx="448560" cy="2664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83160" y="3611880"/>
              <a:ext cx="408600" cy="2052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10920" y="3553560"/>
              <a:ext cx="54000" cy="680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35760" y="3628440"/>
              <a:ext cx="31320" cy="255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72360" y="3638160"/>
              <a:ext cx="573480" cy="194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80000" y="3556800"/>
              <a:ext cx="306000" cy="2700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64880" y="3581640"/>
              <a:ext cx="222480" cy="1980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29560" y="3575520"/>
              <a:ext cx="66960" cy="108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44320" y="3590280"/>
              <a:ext cx="68040" cy="936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50080" y="3606840"/>
              <a:ext cx="78120" cy="115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69560" y="3048120"/>
              <a:ext cx="417600" cy="961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01200" y="3055680"/>
              <a:ext cx="42840" cy="5436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3120" y="3102480"/>
              <a:ext cx="72000" cy="3200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54040" y="3076560"/>
              <a:ext cx="46440" cy="29016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69200" y="3152160"/>
              <a:ext cx="80280" cy="27036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57400" y="3423960"/>
              <a:ext cx="262440" cy="1368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25600" y="3424680"/>
              <a:ext cx="49680" cy="1512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83680" y="3427560"/>
              <a:ext cx="39960" cy="457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61000" y="3469680"/>
              <a:ext cx="19440" cy="2088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79880" y="3426840"/>
              <a:ext cx="57960" cy="298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46120" y="3449160"/>
              <a:ext cx="9360" cy="2664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79000" y="3393000"/>
              <a:ext cx="12240" cy="223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80080" y="3379320"/>
              <a:ext cx="231480" cy="190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05440" y="3380040"/>
              <a:ext cx="9000" cy="255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57560" y="3390120"/>
              <a:ext cx="8640" cy="194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14000" y="3389760"/>
              <a:ext cx="10800" cy="194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63960" y="3388680"/>
              <a:ext cx="10080" cy="2052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20040" y="3390840"/>
              <a:ext cx="10800" cy="219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47840" y="3115440"/>
              <a:ext cx="83160" cy="298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5640" y="3207960"/>
              <a:ext cx="66960" cy="16020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81880" y="3344400"/>
              <a:ext cx="238680" cy="295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05080" y="3107880"/>
              <a:ext cx="49320" cy="249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61200" y="3540600"/>
              <a:ext cx="83880" cy="8136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57600" y="3616560"/>
              <a:ext cx="24120" cy="2844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5280" y="3105000"/>
              <a:ext cx="326160" cy="756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36880" y="3127320"/>
              <a:ext cx="132840" cy="126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5680" y="3493080"/>
              <a:ext cx="11880" cy="42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050280" y="365760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IEDLN 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38280" y="3124080"/>
            <a:ext cx="114300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438280" y="4038480"/>
            <a:ext cx="12193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191120" y="4038480"/>
            <a:ext cx="6094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400800" y="2819520"/>
            <a:ext cx="762120" cy="741240"/>
            <a:chOff x="6400800" y="2819520"/>
            <a:chExt cx="762120" cy="741240"/>
          </a:xfrm>
        </p:grpSpPr>
        <p:sp>
          <p:nvSpPr>
            <p:cNvPr id="572" name=""/>
            <p:cNvSpPr/>
            <p:nvPr/>
          </p:nvSpPr>
          <p:spPr>
            <a:xfrm>
              <a:off x="6559560" y="2838960"/>
              <a:ext cx="551160" cy="44784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6160" y="2901240"/>
              <a:ext cx="383760" cy="3164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83760" y="3306960"/>
              <a:ext cx="339120" cy="522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56040" y="2952360"/>
              <a:ext cx="138960" cy="100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69880" y="3075480"/>
              <a:ext cx="86760" cy="950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14120" y="3422880"/>
              <a:ext cx="743400" cy="131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60640" y="3346560"/>
              <a:ext cx="569520" cy="1281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08960" y="3286080"/>
              <a:ext cx="309240" cy="565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53400" y="2918880"/>
              <a:ext cx="144360" cy="378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85560" y="3226680"/>
              <a:ext cx="275400" cy="3708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93760" y="2877480"/>
              <a:ext cx="425880" cy="3276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24240" y="3367800"/>
              <a:ext cx="182880" cy="5472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94080" y="3393720"/>
              <a:ext cx="89640" cy="331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07280" y="3516840"/>
              <a:ext cx="741240" cy="39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52360" y="3328200"/>
              <a:ext cx="587160" cy="3852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08920" y="3332160"/>
              <a:ext cx="37080" cy="14760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19560" y="3371760"/>
              <a:ext cx="16920" cy="4932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26760" y="3365280"/>
              <a:ext cx="183600" cy="126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90480" y="3391920"/>
              <a:ext cx="103680" cy="244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16360" y="3407040"/>
              <a:ext cx="560880" cy="324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2480" y="3504960"/>
              <a:ext cx="511200" cy="2520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92720" y="3434400"/>
              <a:ext cx="67680" cy="828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23680" y="3525120"/>
              <a:ext cx="39240" cy="313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19160" y="3537000"/>
              <a:ext cx="717120" cy="237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54160" y="3438360"/>
              <a:ext cx="382320" cy="327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35080" y="3468240"/>
              <a:ext cx="278280" cy="241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90840" y="3461040"/>
              <a:ext cx="83880" cy="1332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9560" y="3478680"/>
              <a:ext cx="84960" cy="115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16400" y="3499200"/>
              <a:ext cx="97920" cy="1404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40840" y="2819520"/>
              <a:ext cx="522000" cy="117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0840" y="2828880"/>
              <a:ext cx="53280" cy="6624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45200" y="2885760"/>
              <a:ext cx="90000" cy="3891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21440" y="2854440"/>
              <a:ext cx="58320" cy="35280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40120" y="2945880"/>
              <a:ext cx="100080" cy="328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50640" y="3276720"/>
              <a:ext cx="328320" cy="169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86160" y="3277440"/>
              <a:ext cx="61920" cy="1836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83760" y="3281040"/>
              <a:ext cx="50040" cy="554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54960" y="3332160"/>
              <a:ext cx="24120" cy="255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928920" y="3279960"/>
              <a:ext cx="72720" cy="3636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11720" y="3306960"/>
              <a:ext cx="11880" cy="324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77640" y="3238920"/>
              <a:ext cx="15480" cy="2736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79080" y="3222000"/>
              <a:ext cx="289800" cy="234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60600" y="3223440"/>
              <a:ext cx="11160" cy="313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00840" y="3235320"/>
              <a:ext cx="10800" cy="237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46480" y="3235320"/>
              <a:ext cx="13680" cy="237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83840" y="3233520"/>
              <a:ext cx="12600" cy="248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29120" y="3236400"/>
              <a:ext cx="13680" cy="266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88960" y="2901600"/>
              <a:ext cx="104040" cy="3636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598440" y="3013920"/>
              <a:ext cx="83520" cy="1947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81240" y="3180240"/>
              <a:ext cx="298440" cy="3600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960240" y="2891880"/>
              <a:ext cx="61560" cy="303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05480" y="3418560"/>
              <a:ext cx="105120" cy="990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00800" y="3511080"/>
              <a:ext cx="30240" cy="349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98080" y="2889000"/>
              <a:ext cx="407880" cy="918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5080" y="2916000"/>
              <a:ext cx="166320" cy="153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48400" y="3360600"/>
              <a:ext cx="14760" cy="51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7166880" y="29718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572000" y="3352680"/>
            <a:ext cx="1828800" cy="7632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477120" y="4800600"/>
            <a:ext cx="20574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Sub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6781320" y="3733560"/>
            <a:ext cx="381240" cy="10666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858000" y="4495680"/>
            <a:ext cx="484200" cy="513000"/>
            <a:chOff x="6858000" y="4495680"/>
            <a:chExt cx="484200" cy="513000"/>
          </a:xfrm>
        </p:grpSpPr>
        <p:sp>
          <p:nvSpPr>
            <p:cNvPr id="633" name=""/>
            <p:cNvSpPr/>
            <p:nvPr/>
          </p:nvSpPr>
          <p:spPr>
            <a:xfrm>
              <a:off x="695880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0128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3764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2000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5608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6628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5952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5384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0900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3908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8040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9064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3492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6196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412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0800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8740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19208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3240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3144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7816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9756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1736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6952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5520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4332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3276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4464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24932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4692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29000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26768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5220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4656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1676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2988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3764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1964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9352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4608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3368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3476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1368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7588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096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0136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6644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6796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8364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03620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1332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6088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800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8328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00020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5160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7069680" y="5878440"/>
            <a:ext cx="13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D, Heritag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, Hum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ghts, et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4960" y="2859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096600" y="4038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162920" y="4419720"/>
            <a:ext cx="484200" cy="512640"/>
            <a:chOff x="7162920" y="4419720"/>
            <a:chExt cx="484200" cy="512640"/>
          </a:xfrm>
        </p:grpSpPr>
        <p:sp>
          <p:nvSpPr>
            <p:cNvPr id="693" name=""/>
            <p:cNvSpPr/>
            <p:nvPr/>
          </p:nvSpPr>
          <p:spPr>
            <a:xfrm>
              <a:off x="7263720" y="4433040"/>
              <a:ext cx="35028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06200" y="447624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42560" y="475704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24920" y="451152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61000" y="4596840"/>
              <a:ext cx="550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71200" y="4836960"/>
              <a:ext cx="4723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64440" y="4784400"/>
              <a:ext cx="3618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58760" y="474264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13920" y="4488480"/>
              <a:ext cx="918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344000" y="470160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285320" y="4459680"/>
              <a:ext cx="27072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95560" y="479916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39840" y="481680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66880" y="490212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59040" y="477144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12920" y="4774320"/>
              <a:ext cx="2340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92320" y="480168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497000" y="479700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37320" y="481572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36360" y="482580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83080" y="489384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02480" y="484488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22280" y="490788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74440" y="491580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60120" y="484776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48240" y="486828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7680" y="486360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549560" y="487584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54240" y="488988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51840" y="441972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94920" y="442620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72600" y="446544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57120" y="444384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251480" y="450720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321680" y="473580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534800" y="473652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42560" y="473904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24560" y="477432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98440" y="473832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551000" y="475704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38600" y="470988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39680" y="469800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8600" y="469908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0800" y="470736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45880" y="470700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06280" y="470592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71360" y="470808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72880" y="447624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88560" y="455400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41120" y="466920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18240" y="4469760"/>
              <a:ext cx="3888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65800" y="483408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89780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88200" y="446760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05120" y="448632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56520" y="479376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7467480" y="4495680"/>
            <a:ext cx="484200" cy="513000"/>
            <a:chOff x="7467480" y="4495680"/>
            <a:chExt cx="484200" cy="513000"/>
          </a:xfrm>
        </p:grpSpPr>
        <p:sp>
          <p:nvSpPr>
            <p:cNvPr id="750" name=""/>
            <p:cNvSpPr/>
            <p:nvPr/>
          </p:nvSpPr>
          <p:spPr>
            <a:xfrm>
              <a:off x="756828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1076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4712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2948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76556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47576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6900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66332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81848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4856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8988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0012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84440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7144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6360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1748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9688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156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84188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4092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8764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0704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2684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7900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6468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5280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4224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85412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85880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5640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89948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87716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86168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55604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62624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3936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4712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2912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0300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5556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64316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64424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82316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8536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5044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71084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7592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77744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9312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568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2280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7036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6748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9276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0968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56108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1679400" y="4214880"/>
            <a:ext cx="39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ccess: Dedicated, Internet Café, Dial-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95880" y="1371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AI = Open Archive Initiatives 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066680" y="20574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DML, 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981080" y="2743200"/>
            <a:ext cx="560520" cy="512640"/>
            <a:chOff x="1981080" y="2743200"/>
            <a:chExt cx="560520" cy="512640"/>
          </a:xfrm>
        </p:grpSpPr>
        <p:sp>
          <p:nvSpPr>
            <p:cNvPr id="810" name=""/>
            <p:cNvSpPr/>
            <p:nvPr/>
          </p:nvSpPr>
          <p:spPr>
            <a:xfrm>
              <a:off x="2097720" y="2756520"/>
              <a:ext cx="40536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47040" y="279972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89160" y="308052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68640" y="283500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25960" y="2920320"/>
              <a:ext cx="6372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990800" y="3160440"/>
              <a:ext cx="54684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98800" y="3107880"/>
              <a:ext cx="41868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207880" y="306612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87520" y="2811960"/>
              <a:ext cx="106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190600" y="302508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122920" y="2783160"/>
              <a:ext cx="31320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65920" y="312264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17400" y="314028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85760" y="322560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2320" y="309492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02000" y="3097800"/>
              <a:ext cx="2736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2680" y="312516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67720" y="312048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14520" y="313920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66040" y="314928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04480" y="321732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90120" y="316836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512800" y="323136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94760" y="323928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93760" y="317124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79720" y="319176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14880" y="318708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8560" y="319932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3960" y="321336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84040" y="274320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81120" y="274968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55200" y="278892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7560" y="276732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83680" y="283068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65040" y="305928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11640" y="306000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89160" y="306252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67920" y="309780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69520" y="306180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430360" y="308052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84480" y="303336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85560" y="302148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92920" y="302256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349000" y="303084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08680" y="303048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262600" y="302940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22640" y="303156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40000" y="279972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26520" y="287748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187360" y="299268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92560" y="2793240"/>
              <a:ext cx="4536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984320" y="315756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81080" y="322128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26160" y="279108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45960" y="280980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089440" y="311724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2743200" y="1752480"/>
            <a:ext cx="560520" cy="513000"/>
            <a:chOff x="2743200" y="1752480"/>
            <a:chExt cx="560520" cy="513000"/>
          </a:xfrm>
        </p:grpSpPr>
        <p:sp>
          <p:nvSpPr>
            <p:cNvPr id="867" name=""/>
            <p:cNvSpPr/>
            <p:nvPr/>
          </p:nvSpPr>
          <p:spPr>
            <a:xfrm>
              <a:off x="2859840" y="1765800"/>
              <a:ext cx="40536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09160" y="180900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51280" y="208980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30760" y="184428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88080" y="1929600"/>
              <a:ext cx="6372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52920" y="2170080"/>
              <a:ext cx="54684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860920" y="2117520"/>
              <a:ext cx="41868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970000" y="207540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49640" y="1821240"/>
              <a:ext cx="1062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52720" y="203436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885040" y="1792440"/>
              <a:ext cx="31320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28040" y="213192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179520" y="214992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747880" y="223524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54440" y="210456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64120" y="2107440"/>
              <a:ext cx="2736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24800" y="213480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29840" y="213012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76640" y="214848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828160" y="215892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66600" y="222696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52240" y="217800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74920" y="224100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756880" y="224892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855880" y="218088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1840" y="220140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77000" y="219636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90680" y="220896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196080" y="222300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846160" y="175248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243240" y="175896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17320" y="179820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99680" y="177660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845800" y="183996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27160" y="206892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173760" y="206964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51280" y="207180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30040" y="210744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31640" y="207108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92480" y="208980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46600" y="204300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47680" y="203112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55040" y="203184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11120" y="204048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70800" y="204012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24720" y="203904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984760" y="204084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102120" y="180900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888640" y="188712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49480" y="200196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154680" y="1802520"/>
              <a:ext cx="4536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46440" y="216720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43200" y="223092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888280" y="180036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08080" y="181908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51560" y="212688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200400" y="22860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Bibliografi (IsisOnl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lltek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atu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da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is &amp;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pesifikasi Tekn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 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esha Digital Library (GDL) versi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sOnline (khusus untuk online CDS/ISIS databa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b Server 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klh-front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54920" cy="473256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5490360" y="304920"/>
            <a:ext cx="272268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in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artikel dalam 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PAN ASIA RnD Grants Programm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DRC Canada, periode November 2000 – Juli 200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Yayasan Litbang Telekomunikasi dan Informatika (YLTI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iode November 2000 – Juli 200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E01562_" descr=""/>
          <p:cNvPicPr/>
          <p:nvPr/>
        </p:nvPicPr>
        <p:blipFill>
          <a:blip r:embed="rId1"/>
          <a:stretch/>
        </p:blipFill>
        <p:spPr>
          <a:xfrm>
            <a:off x="6553080" y="380880"/>
            <a:ext cx="1809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talog CDS/ISIS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 online: IsisOnline versi 2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source: CDS/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aftar Database Katalog Online CDS/IS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0" name="klh-isis-1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80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klh-isis-searchres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8988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tail Katalo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3" name="klh-isis-detail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7724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klh-isis-order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76124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ookma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6" name="klh-isis-bookmark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7947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klh-isis-index" descr=""/>
          <p:cNvPicPr/>
          <p:nvPr/>
        </p:nvPicPr>
        <p:blipFill>
          <a:blip r:embed="rId1"/>
          <a:stretch/>
        </p:blipFill>
        <p:spPr>
          <a:xfrm>
            <a:off x="1886040" y="696960"/>
            <a:ext cx="53719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rget Pengguna DL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KLH dapat memberi service online kepa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ff internal KLH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wa, mahasiswa, penelit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yarakat umum, bisni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SM Lingkungan hidup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ketan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dalam DL KLH dapat dipaketkan dan disebarluaskan melalu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-ROM digital library KL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masan ulang menggunakan aplikasi lain (multimedia, presentasi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/ Keuntu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gai Public Relation KLH kepada masyaraka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ingkatkan akses terhadap informasi dan pengetahuan lingkungan hidup yang dimilik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anfaatkan jaringan IndonesiaDLN untuk disseminasi informas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gintegrasikan resources informasi KLH yang tersebar di berbagai daera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laborasi dengan institusi lingkungan hidup lainnya (mis. LSM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sist" descr=""/>
          <p:cNvPicPr/>
          <p:nvPr/>
        </p:nvPicPr>
        <p:blipFill>
          <a:blip r:embed="rId1"/>
          <a:stretch/>
        </p:blipFill>
        <p:spPr>
          <a:xfrm>
            <a:off x="3486240" y="0"/>
            <a:ext cx="565776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99cc"/>
              </a:buClr>
              <a:buSzPct val="7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ara Pertama dari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cc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SIG III ASIST International Paper Cont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November 2001, Washington DC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icipants: 16 countries, 33 paper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dul Paper: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donesian Digital Library Network is Born to Struggle with The Digital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*, Ismail Fahmi. </a:t>
            </a:r>
            <a:br>
              <a:rPr sz="2400"/>
            </a:br>
            <a:br>
              <a:rPr sz="2000"/>
            </a:b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* Paper dipublikasikan dalam YIILR Journal, 2002, Elsevi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kungan Pimpinan terhadap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laborasi dengan komunitas lingkungan hidup (dalam IEDLN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yanan kepada pengguna secara onlin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7" name="BD06518_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1942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an-rnd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572000" cy="3822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365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uk katego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nnovative Resear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publikasikan dalam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N ASIA ICT R&amp;D Revie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Mei 2002, IDRC Singapo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hargaan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ategori Khusus: Program Favorit Pengurus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2bc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eAward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Indonesia ICT AWARD 2002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KOMINF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12 Agustus 200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486400" y="2666880"/>
          <a:ext cx="289548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666880"/>
                    <a:ext cx="289548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1785960"/>
          <a:ext cx="914400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85960"/>
                    <a:ext cx="914400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295280" y="91440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25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590920" y="1600200"/>
            <a:ext cx="618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: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Network of Networks*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3236760"/>
            <a:ext cx="1774800" cy="890640"/>
          </a:xfrm>
          <a:prstGeom prst="cloudCallout">
            <a:avLst>
              <a:gd name="adj1" fmla="val -6083"/>
              <a:gd name="adj2" fmla="val 40194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entral 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4040" y="4379760"/>
            <a:ext cx="1774800" cy="571680"/>
          </a:xfrm>
          <a:prstGeom prst="cloudCallout">
            <a:avLst>
              <a:gd name="adj1" fmla="val 121643"/>
              <a:gd name="adj2" fmla="val -110833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Kesehat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4040" y="2857680"/>
            <a:ext cx="1774800" cy="571320"/>
          </a:xfrm>
          <a:prstGeom prst="cloudCallout">
            <a:avLst>
              <a:gd name="adj1" fmla="val 106708"/>
              <a:gd name="adj2" fmla="val 863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Pertani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286000"/>
            <a:ext cx="1776600" cy="571680"/>
          </a:xfrm>
          <a:prstGeom prst="cloudCallout">
            <a:avLst>
              <a:gd name="adj1" fmla="val -60097"/>
              <a:gd name="adj2" fmla="val 1338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uman Righ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69000" y="3111480"/>
            <a:ext cx="1774800" cy="571680"/>
          </a:xfrm>
          <a:prstGeom prst="cloudCallout">
            <a:avLst>
              <a:gd name="adj1" fmla="val -121912"/>
              <a:gd name="adj2" fmla="val 29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erit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94480" y="4127400"/>
            <a:ext cx="1774800" cy="571680"/>
          </a:xfrm>
          <a:prstGeom prst="cloudCallout">
            <a:avLst>
              <a:gd name="adj1" fmla="val -119944"/>
              <a:gd name="adj2" fmla="val -102499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Children 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1160" y="2222640"/>
            <a:ext cx="1776600" cy="571320"/>
          </a:xfrm>
          <a:prstGeom prst="cloudCallout">
            <a:avLst>
              <a:gd name="adj1" fmla="val 60902"/>
              <a:gd name="adj2" fmla="val 13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ETD*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8560" y="5079960"/>
            <a:ext cx="1924200" cy="571680"/>
          </a:xfrm>
          <a:prstGeom prst="cloudCallout">
            <a:avLst>
              <a:gd name="adj1" fmla="val 16500"/>
              <a:gd name="adj2" fmla="val -16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Lingkun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4826160"/>
            <a:ext cx="1924200" cy="571320"/>
          </a:xfrm>
          <a:prstGeom prst="cloudCallout">
            <a:avLst>
              <a:gd name="adj1" fmla="val -74009"/>
              <a:gd name="adj2" fmla="val -184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Dll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3960" y="617220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Networks of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0120" y="617220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* Electronic Theses &amp; Disser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ar belaka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ublik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leh bangsa Indonesia di level internasional kura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tar pulau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formasi on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ebih termanfaatk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pengembangan digital library yang terintegras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– sbg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cen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kurang mendapat perhati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risis ekonom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disi internet di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BD07311_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165744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16:38:05Z</dcterms:created>
  <dc:creator>Ismail Fahmi</dc:creator>
  <dc:description/>
  <dc:language>en-US</dc:language>
  <cp:lastModifiedBy>Ismail Fahmi</cp:lastModifiedBy>
  <dcterms:modified xsi:type="dcterms:W3CDTF">2002-08-14T07:01:37Z</dcterms:modified>
  <cp:revision>23</cp:revision>
  <dc:subject/>
  <dc:title>The Indonesian Digital Library Network: Menuju Masyarakat Berbasis Ilmu Pengetahuan</dc:title>
</cp:coreProperties>
</file>