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135-6377-43A3-83D9-FF3700A6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5D0-5710-4D48-B386-2D5D4E7F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1DF-3F3C-4DF9-996A-3E6EC6EC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7E53-BE4F-46AB-B0AF-5F151285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D5FD-48B2-4AC2-89A6-23E22DD7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CE0E-5490-4A55-B801-35535304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1382-FB47-4C8F-B55B-265348AD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5A3F-A43C-4901-981C-964C1563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20E4-9DFE-42F1-B65D-BAB7FC93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E7A6-1C06-4B51-A93A-9EFA0E73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DFD9-A53B-4EC0-88B9-B11FA921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401-9540-4863-9AAA-4714CFFF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E740-9645-4758-96DD-A2AA1ECA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56DB-9B8C-42DD-A280-73446FFF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EF9D-D24D-4317-A68A-03ED64BA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0CF2-4F89-4F0F-8F23-5531950C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C487-23C7-4F73-AE30-5B7181A2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F81-DDF3-4A09-A2D1-40FE87F5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DC1-6728-4038-8A33-6B9DE267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A0E-B0FC-48F2-9BCA-7FFAFF61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A10D-582D-429F-B27B-88DC156A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DE8F-A83F-4F24-A1B7-24289F3C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A49-815F-4DA4-8F8F-68847D69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8BF-D1B1-4900-B596-C219E058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3AF4-E02A-48F8-962F-A76BC8BB5C73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0B21-C880-43F6-A4D6-8703E68B05A1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4.wmf"/><Relationship Id="rId3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: How It Work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0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28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33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46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62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64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6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69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173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187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9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14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16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29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1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47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4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49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51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5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55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56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66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67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77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78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88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89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99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00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10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11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21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22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25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28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34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35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45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46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56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57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67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70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0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91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4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39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21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22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5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8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9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55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57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59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60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1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575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578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0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2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4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6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0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9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9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4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9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6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9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98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599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2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0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4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0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06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10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16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21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2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50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63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679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681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8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83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68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689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690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693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696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02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06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10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21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2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23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24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26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71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7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3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7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5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6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9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1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19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20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23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26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32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36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38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3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40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42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43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53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54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64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6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68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0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884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887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890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893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896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13716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905120" y="1981080"/>
            <a:ext cx="1676160" cy="152424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2-03-19T15:04:09Z</dcterms:modified>
  <cp:revision>59</cp:revision>
  <dc:subject/>
  <dc:title>IndonesiaDLN: How It Works?</dc:title>
</cp:coreProperties>
</file>