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A3FD-FA43-47BE-AD50-01E2121A8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A194-8D63-405C-8D9A-E4A55E73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C889-334D-4A56-AC01-DD6F18280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0DD2-5F7C-47F6-8C8B-72F85893B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EF65-6CAB-43D8-B186-F467A9530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E2DA-5E21-4570-9053-C7616282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B0FD-2866-4E1F-BF69-56A96105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CC51-CC1A-44CA-9864-E4D1A5D2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E77C-FE42-4035-A1B2-C7799044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33F5-7F23-42EF-A674-05E48C05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C44D-B729-4244-9670-3A360984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B535-BF12-4496-A291-C1F1FE45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A7D0-BB33-47D1-B7D0-7C2CF84F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B4EB-9D2A-4383-8882-7FD6E8A8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688C-1DE0-46FF-B21C-D0646627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6405-F8A5-4517-A9B1-10714A408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BE4D-396E-4F34-82F7-A6153B3F9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46FF-E9D9-4FB2-845B-CA25251E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01D9-3CFA-49B6-8073-C83D9600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EE6C-963B-4C8C-BC30-B7FA77F5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437A-E990-4329-A73C-C8EF2E1D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5130-99AF-46A7-9C0F-2A73139F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0368-13F8-4F17-87CC-FA5C4CA8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9AEA-26EE-4AD5-B9CC-46661B04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AC09-EE82-403F-A650-9FDBF2C916CD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84C8-A22B-490D-A36F-9B5150A8DCC4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lir.org/diglib/about/strategic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1 Bulan IndonesiaDLN dan Tantangan Di Depan Itu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47920" y="350532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smail Fahmi &lt;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smail@itb.ac.id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ekjen IndonesiaDLN (s/d 2002)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etua KMRG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11 April 2002, Savoy Homan, Bandung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ktifitas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a 4 aspek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ociet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mengelola forum IndonesiaDLN (lewat milis dan pertemuan tahunan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olic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proaktif memberi masukan kepada pimpinan institusi-institusi untuk berbagi pengetahuan (belum terlalu diaktifkan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trategi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standard metadata dan protokol, strategic business unit model, service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echnic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tools, arsitektur, network, hub server, instalasi, training, operasio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mponen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artn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simpul/node dari jaring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Us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penggu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lian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institusi kerjas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ekretaria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execu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tandard &amp; Too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metadata, protokol, soft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Hub Server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the storages of knowled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ilitas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kretariat; numpang bareng KMRG di Perpustakaan Pusat ITB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er Hub; numpang bareng server KMRG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neksi Internet, 2 mbps numpang bareng AI3 ITB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nfigurasi sebuah LAN D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1478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gdl-lan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594360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rsitektur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581280" y="2971800"/>
            <a:ext cx="1828800" cy="5335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UB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L-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33520" y="2514600"/>
            <a:ext cx="1371600" cy="1143000"/>
            <a:chOff x="533520" y="2514600"/>
            <a:chExt cx="1371600" cy="1143000"/>
          </a:xfrm>
        </p:grpSpPr>
        <p:sp>
          <p:nvSpPr>
            <p:cNvPr id="142" name=""/>
            <p:cNvSpPr/>
            <p:nvPr/>
          </p:nvSpPr>
          <p:spPr>
            <a:xfrm>
              <a:off x="533520" y="251460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DL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352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80880" y="4267080"/>
            <a:ext cx="1523880" cy="1143000"/>
            <a:chOff x="380880" y="4267080"/>
            <a:chExt cx="1523880" cy="1143000"/>
          </a:xfrm>
        </p:grpSpPr>
        <p:sp>
          <p:nvSpPr>
            <p:cNvPr id="145" name=""/>
            <p:cNvSpPr/>
            <p:nvPr/>
          </p:nvSpPr>
          <p:spPr>
            <a:xfrm>
              <a:off x="380880" y="4267080"/>
              <a:ext cx="152388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uman Rights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0880" y="5029200"/>
              <a:ext cx="152388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7086600" y="2514600"/>
            <a:ext cx="1371600" cy="1143000"/>
            <a:chOff x="7086600" y="2514600"/>
            <a:chExt cx="1371600" cy="1143000"/>
          </a:xfrm>
        </p:grpSpPr>
        <p:sp>
          <p:nvSpPr>
            <p:cNvPr id="148" name=""/>
            <p:cNvSpPr/>
            <p:nvPr/>
          </p:nvSpPr>
          <p:spPr>
            <a:xfrm>
              <a:off x="7086600" y="2514600"/>
              <a:ext cx="1371600" cy="762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gricult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8660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086600" y="4267080"/>
            <a:ext cx="1371600" cy="1143000"/>
            <a:chOff x="7086600" y="4267080"/>
            <a:chExt cx="1371600" cy="1143000"/>
          </a:xfrm>
        </p:grpSpPr>
        <p:sp>
          <p:nvSpPr>
            <p:cNvPr id="151" name=""/>
            <p:cNvSpPr/>
            <p:nvPr/>
          </p:nvSpPr>
          <p:spPr>
            <a:xfrm>
              <a:off x="7086600" y="4267080"/>
              <a:ext cx="1371600" cy="7621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eritage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8660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809880" y="4724280"/>
            <a:ext cx="1371600" cy="1143000"/>
            <a:chOff x="3809880" y="4724280"/>
            <a:chExt cx="1371600" cy="1143000"/>
          </a:xfrm>
        </p:grpSpPr>
        <p:sp>
          <p:nvSpPr>
            <p:cNvPr id="154" name=""/>
            <p:cNvSpPr/>
            <p:nvPr/>
          </p:nvSpPr>
          <p:spPr>
            <a:xfrm>
              <a:off x="3809880" y="472428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iblio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09880" y="54864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905120" y="3429000"/>
            <a:ext cx="1676160" cy="15228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3733920"/>
            <a:ext cx="167616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409360" y="3429000"/>
            <a:ext cx="1676520" cy="22860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409360" y="3733920"/>
            <a:ext cx="167652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685800" cy="19051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432" y="1200"/>
                </a:lnTo>
                <a:lnTo>
                  <a:pt x="432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38680" y="175248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the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tfo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362320"/>
            <a:ext cx="762120" cy="12189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1056"/>
                </a:moveTo>
                <a:lnTo>
                  <a:pt x="480" y="1056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057400" y="1828800"/>
            <a:ext cx="1904760" cy="914040"/>
            <a:chOff x="2057400" y="1828800"/>
            <a:chExt cx="1904760" cy="914040"/>
          </a:xfrm>
        </p:grpSpPr>
        <p:sp>
          <p:nvSpPr>
            <p:cNvPr id="164" name=""/>
            <p:cNvSpPr/>
            <p:nvPr/>
          </p:nvSpPr>
          <p:spPr>
            <a:xfrm>
              <a:off x="2057400" y="1828800"/>
              <a:ext cx="1904760" cy="6094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stance Learning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57400" y="2438280"/>
              <a:ext cx="190476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590920" y="2743200"/>
            <a:ext cx="990360" cy="609480"/>
          </a:xfrm>
          <a:custGeom>
            <a:avLst/>
            <a:gdLst/>
            <a:ahLst/>
            <a:rect l="l" t="t" r="r" b="b"/>
            <a:pathLst>
              <a:path w="624" h="384">
                <a:moveTo>
                  <a:pt x="0" y="0"/>
                </a:moveTo>
                <a:lnTo>
                  <a:pt x="0" y="384"/>
                </a:lnTo>
                <a:lnTo>
                  <a:pt x="624" y="384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5638680"/>
            <a:ext cx="137160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A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3886200"/>
            <a:ext cx="761760" cy="19810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yarat Menjadi Partner/Nod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emiliki sumber pengetahuan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an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ersedia berbagi pengetahuan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agi kemajuan bangsa Indonesia.”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ngkah Menjadi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sikan: knowledge source, type, user, dan servic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apkan staf dan mekanisme pengelolaan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all server digital 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strasikan server ke IndonesiaDL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kronisasi data (share and harves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e service 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8960" y="2590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istik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uni 2001 – April 2002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Hub Serv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umlah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itu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6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on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rne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t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7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de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ABBNA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A = Kode wilayah (menurut Indomarc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sal: JB = Jawa Bar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B = Tipe perpustakaan/institus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T = Perguruan Tingg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K = Perpustakaan Khus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N = Warn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E = Person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ME = Singkatan nama perpustakaan/institus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oh: JBPTITBPP (Perpustakaan Pusat ITB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buah FOR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ktober 2000: Forum dibentuk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ni 2001: Jaringan DL diluncurk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ril 2002: Pertemuan Tahunan Ketig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ggota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ndivid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yang tertarik pada PENGEMBANGAN DL di Indonesi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nstitus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yang ingin turut BERBAGI PENGETAHUAN bagi bangsa Indonesi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rtner/Nodes (Institusi)</a:t>
            </a:r>
            <a:br>
              <a:rPr sz="4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 6 April 200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19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1793880"/>
          <a:ext cx="9144000" cy="50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93880"/>
                    <a:ext cx="9144000" cy="50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ndisi Koneksi Intern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al-up / tempo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dica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ipe Cont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04920" y="2133720"/>
          <a:ext cx="8458200" cy="343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33720"/>
                    <a:ext cx="8458200" cy="34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5488200" y="5715000"/>
            <a:ext cx="323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= 4023 meta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mat Fi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04920" y="1447920"/>
          <a:ext cx="8610480" cy="52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861048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 Besar Kontributor Metadata &amp; Fi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219320" y="1371600"/>
          <a:ext cx="701028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71600"/>
                    <a:ext cx="70102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hare Vs Harves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mlah Partn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re metadat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3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re fi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3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rvest/downloa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4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akti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2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er / Us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09480" y="1600200"/>
          <a:ext cx="6096240" cy="445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609624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7151760" y="1563840"/>
            <a:ext cx="124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ndi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il bi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bi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egara Asal Memb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371600" y="1981080"/>
          <a:ext cx="406728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81080"/>
                    <a:ext cx="40672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6159960" y="2021040"/>
            <a:ext cx="19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a juga 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ang dari L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rofile Memb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523880" y="1905120"/>
          <a:ext cx="40179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05120"/>
                    <a:ext cx="40179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6160320" y="1639800"/>
            <a:ext cx="216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1,5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hasiswa S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si kedu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i Priv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ny 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istik Akses GDL Hu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213372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usage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7010640" cy="35053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54200" y="5907240"/>
            <a:ext cx="73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bagian besar berupa sinkronisasi data dari Part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523880" y="3124080"/>
          <a:ext cx="6553440" cy="27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124080"/>
                    <a:ext cx="6553440" cy="27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137160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cc00"/>
                </a:solidFill>
                <a:uFillTx/>
                <a:latin typeface="Arial"/>
              </a:rPr>
              <a:t>Unlock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638680" y="2743200"/>
            <a:ext cx="2209680" cy="1447560"/>
            <a:chOff x="5638680" y="2743200"/>
            <a:chExt cx="2209680" cy="1447560"/>
          </a:xfrm>
        </p:grpSpPr>
        <p:sp>
          <p:nvSpPr>
            <p:cNvPr id="110" name=""/>
            <p:cNvSpPr/>
            <p:nvPr/>
          </p:nvSpPr>
          <p:spPr>
            <a:xfrm>
              <a:off x="5638680" y="3264120"/>
              <a:ext cx="1493280" cy="92664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13640" y="2743200"/>
              <a:ext cx="1134720" cy="127404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77360" y="3322440"/>
              <a:ext cx="298440" cy="5760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143000" y="25909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cess to our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ecenderungan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tetap aktif mengelola DLnya dan melakukan sharing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tetap aktif mengelola DLnya tapi tidak aktif sharing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hanya aktif harvest/download metadat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hanya terdaftar sa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alis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cenderungan tsb mungkin disebabk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L adalah sesuatu yang baru dan ingin dicob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kungan pimpinan institusi untuk mengelola DL kurang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ndard operasi sinkronisasi data belum ad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sialisasi aktif dan service bagi partner belum didefinisika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lum adanya definisi pasar, kebutuhan user, dan standard service bersam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ntangan Di Dep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8cs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55308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tanyaan untuk Meeting Ketiga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are our users and what are their need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services we will provid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about standard, protocol, and tool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will lead the IndonesiaDLN nex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to survive from the financial issu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8960" y="28191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erimakasi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ntangan Terbes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rasal dari 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Tahoma"/>
              </a:rPr>
              <a:t>dalam diri kita sendir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LOC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ur knowledge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’t want to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UNLOC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t, 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 it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LOCK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172200" y="4191120"/>
            <a:ext cx="1494000" cy="1523880"/>
            <a:chOff x="6172200" y="4191120"/>
            <a:chExt cx="1494000" cy="1523880"/>
          </a:xfrm>
        </p:grpSpPr>
        <p:sp>
          <p:nvSpPr>
            <p:cNvPr id="117" name=""/>
            <p:cNvSpPr/>
            <p:nvPr/>
          </p:nvSpPr>
          <p:spPr>
            <a:xfrm>
              <a:off x="6172200" y="4788000"/>
              <a:ext cx="1494000" cy="92700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00800" y="4191120"/>
              <a:ext cx="1135080" cy="127476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it is locked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rena KIT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kita tidak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kita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perlu kita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orang lain ingin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cara memberi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ata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n seterusnya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w to Unlock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lah tugas KITA di IndonesiaDL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TA haru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jadi TAHU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jadi SADAR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u BERBAGI, lal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re it ! Tunggu apa lagi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pa yang perlu dike-TAHU-i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kayaan intelektual kita (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apa membutuhkan apa (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mmun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gaimana menyampaikannya (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ulture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operation, commerce, capital, capacity, dan connectiv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hat: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http://idln.lib.itb.ac.id/Open.html?target= overview/delapan_kesenjangan.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ngapa Digital Library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rupakan ‘storage of knowledge’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dah dan murah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ine, anywhere, anytim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 (Perpustakaan) sudah lama dikenal masyaraka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si Digital Libra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Digital libraries ar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ganization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at provide th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source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including the specialized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taff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to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elect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tructur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ffer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llectual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cces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terpret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istribut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reserv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integrity of, and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sur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ersistenc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ver time of collections of digital works so that they ar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adil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conomicall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vailable for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us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y a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fined communit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et of communitie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"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  <a:hlinkClick r:id="rId1"/>
              </a:rPr>
              <a:t>http://www.clir.org/diglib/about/strategic.ht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0T00:50:10Z</dcterms:created>
  <dc:creator>Ismail Fahmi</dc:creator>
  <dc:description/>
  <dc:language>en-US</dc:language>
  <cp:lastModifiedBy>Ismail Fahmi</cp:lastModifiedBy>
  <dcterms:modified xsi:type="dcterms:W3CDTF">2002-04-10T05:01:40Z</dcterms:modified>
  <cp:revision>14</cp:revision>
  <dc:subject/>
  <dc:title>11 Bulan IndonesiaDLN dan Tantangan Masa Depan</dc:title>
</cp:coreProperties>
</file>