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2A6-15A3-4160-8B72-8821D37B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DB8-E6F1-45DF-B96C-21ADB0E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3E2-96C3-43F9-A22C-53B7D074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BAD-4453-43F1-8842-FAED9D9F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1204-24D0-43CE-9509-CDBE3B92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B36B-7BEF-4512-BA71-704E68F4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9E96-D11F-44FD-AD05-EF3FA260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7B2C-0134-4AAA-AB2B-52CDF7F4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E269-62F1-461C-AD3D-6A3FEC52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0D9C-9DB5-4DD7-8C9B-9C2AC3D0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260B-0B2F-43B0-8A13-3FBEEAE5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C79-642C-40E4-94D9-7E0F48E3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6518-6AF4-4D8D-93EA-45E250AD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C4A2-8845-482A-A643-985678E9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35C1-5D3A-47E3-B76E-4AA04082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C9E6-9E5D-445E-A905-50C56EF5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4E0D-801A-4B73-B694-288342D0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C9E-D3C4-4BB1-A7FA-3BC8AAC1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5D6-64FE-4533-A0EE-77E96693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2CC-8093-48BB-8509-5F810F3D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37D-A25C-49D7-9A53-9A972728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C28-579D-4025-97A7-9C50991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33C-B3F5-4568-A088-AA2771F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282-9850-4693-ABE1-D0F4CE74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98C0-E6E9-4023-B275-77FBA5200181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C386-C0BC-44A0-BA6C-2F5080E7129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Kontribusi Perpustakaan Pusat ITB:</a:t>
            </a:r>
            <a:br>
              <a:rPr sz="32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sep, strategi, teknologi, dan jaringan Digital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MRG, AI3, CN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mail Fahmi - Ismail@itb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8806-82D2-4AE0-A585-B9646F5EE7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WAIS-I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566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FDA-6530-4A6B-A5CA-B1FD79EE0F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 server di IT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ggo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1 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40 buah database CDS/ISIS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an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ll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33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19720" cy="39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6C0-9AD7-4D84-BB3C-E25CC72720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nline shopping &amp; ord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971800" cy="207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55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243864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590920" cy="198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27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54340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52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924280" cy="24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52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52280" y="4114800"/>
            <a:ext cx="284796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8120" y="3352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3276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67E-17D5-42AE-88CF-12E7FA06A2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Ganesha Digital Librar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jadi knowledgebase dari IC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gan mengelola tacit &amp; explicit knowledge civitas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ggunakan TI yang tepat dan terjangkau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membuka akses bagi masyarakat secara lu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http://digital.lib.itb.ac.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335-526A-46DE-8097-0ED8D1A029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plic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urse mate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A2C-F69C-48D4-AC0A-C98DA458A0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Tac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iling list archiv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F96-A427-4B69-84FA-4107006F34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Captur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555bad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5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3A0-36F6-4CF7-A868-D5CCC80997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Access &amp; Dissemin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9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0" name=""/>
          <p:cNvCxnSpPr>
            <a:stCxn id="198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8" idx="4"/>
            <a:endCxn id="203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ED2-FE1E-45BF-B48C-DE30200626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Pres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231-DAFD-46AD-BE33-E7ED0F993B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mpus Network Top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6B4-9E7D-4642-B51B-5AA15A9166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ilas tentang Knowledge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KM di PP IT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ISNetwork, One Stop Shop for Libraries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nesha Digital Libr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ringan Digital Library: Nasional &amp; Interna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Free-Software: GNU-Li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2C8-25C0-4C7D-8FAD-6F79FEED30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onfigurasi Serv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at ini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tium 1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4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 GB H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IS-ISIS search eng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l ser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mail + Ezml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8840" y="182880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00 GB HD (hingga TB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936-F0F6-45C4-9CF1-48C5DDC482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aringan Digital Library Nasiona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yek pembuatan sistem jaringan digital library nasional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husus mengelola laporan penelitian, thesis, dan disertas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34360" y="141120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71A-079D-490E-8B26-AEE075A609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kus komunitas targ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asiswa dan Peneli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omunitas yang kreatif dan inovatif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sen knowled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nowledge manager, organis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digma library sbg information ce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luang linka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ACA-59DA-4792-8FD8-314CE372FB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hasil penelitian terbuka dan mudah diak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blikasi hasil penelitian semakin cepat, mudah, dan mura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ualitas lulusan dan hasil penelitiannya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anfaatkan hasil penelitian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ksternalisasi tacit knowled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age dengan dunia bisnis, industri, dan masyara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56C-811E-4298-A8E7-3401F99EA4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laksan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MRG &amp; CN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d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N ASIA/IDRC Singapo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yasan Litbang Telekomunikasi dan Informatik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NR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n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ian Internet Interconnection Initiatives (AI3)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0E8-78B8-40D1-8BB6-EEFCEEF67E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tner (pioneer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E83-287B-460C-8042-E83974D777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228600"/>
          <a:ext cx="82296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2296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digital librar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449-8C15-4EEF-A35C-CA9691E35C11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tput 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 server Digital Library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ndard: metadata, naming, submission method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 pengelola di tiap part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1E6-02CA-4271-8295-04E5C53E29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Jaringan Digital Library Internasiona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tukaran knowledgebase (laporan penelitian, tesis, dan disertas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ner di luar negeri (confirmed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Groningen, Belan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Aalborg, Denm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B sebagai hub/gateway untuk Indones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imasi tahun 2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70B-D4C5-4FA7-A1FB-7AE3A2E063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F56-364B-405B-8F3A-D2B58A749D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Knowledge Management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555b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0F9-79C3-4484-86B3-27E94D964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uang jaringan Internas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677-ED22-4E64-BB11-84F3558173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a Self-Sustainab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ding hanya diperlukan diaw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anjutnya pola self-sustainabl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akses ke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ualan CD-ROM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base sebagai modal barter dengan partner internasio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3A0-2DB7-47A3-BC40-0D5CEB3C61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u Plagiatis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iap orang akan dengan mudah mengetahui hasil / laporan riset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setiap plagiat akan mudah dilacak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keinginan berbuat plagiat semakin keci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F27-872F-405B-A39B-0AF17F31BC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GNU-Lib, Free-Software Library Auto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-Softwar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erarti “freedom”, “bebas”, “liberty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kan “gratis”, “harga 0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rary Automati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orkflow aktifitas perpustakaan dengan bantuan TI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ncarian, peminjaman, pengembalian, denda, pemesanan, perpanjangan, pengadaan buku, keanggotaan, dll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-Lib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ject pembuatan Free-Software Library Autom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leh KM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gnu-head-sm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362320" cy="2233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939000" y="5410080"/>
            <a:ext cx="120636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hun in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249-95D8-41F3-BF0B-B1163E1B9B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a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gsi library automation pada umum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b akses: online search, pesan, perpanjangan, 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ail aler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code enab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324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81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530-6BE9-4C52-8BCF-A2761ABA98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entium 100 M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2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 GB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or 48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6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o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Mod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et connection to ISP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050-4716-41CB-8ED5-CEA958847A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perating system: Linux or Unix 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atabase server: 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cripting language: Per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Web server: 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il server: Qm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OS with TCP/IP applic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for barcode printing, using Windows 95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755-34B9-4D72-96C1-0A67CC28EB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4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067-EE49-47FF-9696-E38C884A5E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 K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AF2-C295-4FC9-84A4-DE7CAACB06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27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744e1d"/>
                </a:gs>
                <a:gs pos="50000">
                  <a:srgbClr val="fcab40"/>
                </a:gs>
                <a:gs pos="100000">
                  <a:srgbClr val="744e1d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ikator Keberhasi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858-49D4-4508-9055-9A51E8AABE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unci suk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daya “knowledge-friend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juan dan Bahasa yang jel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transfer dengan berbagai ja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kungan senior manaje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E0B-45C2-47E2-8C63-42EA3631FA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roject KM di PP ITB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uju masyarakat berbasis ilmu pengetahua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lalui pengelolaan modal intelektual secara efektif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ggunakan teknologi informasi yang tepat dan terjangka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78C-E379-42D1-B9DF-AB6AB75488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rateg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/Open-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mbangun tool DL yang  “free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gelola dan membuka akses ke IC IT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re teknologi DL dan membangun jaringan D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si komunitas “knowledge-shar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A02-D2CC-4BBC-8239-2D6E7D5E15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, One Stop Sho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81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34320" cy="506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70240" y="2133720"/>
            <a:ext cx="3292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http://isisnetwork.lib.itb.ac.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8E7-1A8F-4E7F-A4A2-ED347CDF8D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8:51:05Z</dcterms:created>
  <dc:creator>Ismail Fahmi</dc:creator>
  <dc:description/>
  <dc:language>en-US</dc:language>
  <cp:lastModifiedBy>Ismail Fahmi</cp:lastModifiedBy>
  <dcterms:modified xsi:type="dcterms:W3CDTF">2000-06-30T01:13:32Z</dcterms:modified>
  <cp:revision>39</cp:revision>
  <dc:subject/>
  <dc:title>Leveraging Intellectual Capital Assets within Research &amp; Education Institutions</dc:title>
</cp:coreProperties>
</file>