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9840" y="79200"/>
            <a:ext cx="8955000" cy="6640560"/>
            <a:chOff x="69840" y="79200"/>
            <a:chExt cx="8955000" cy="6640560"/>
          </a:xfrm>
        </p:grpSpPr>
        <p:grpSp>
          <p:nvGrpSpPr>
            <p:cNvPr id="1" name=""/>
            <p:cNvGrpSpPr/>
            <p:nvPr/>
          </p:nvGrpSpPr>
          <p:grpSpPr>
            <a:xfrm>
              <a:off x="69840" y="79200"/>
              <a:ext cx="8955000" cy="6640560"/>
              <a:chOff x="69840" y="79200"/>
              <a:chExt cx="8955000" cy="664056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69840" y="79200"/>
                <a:ext cx="1098720" cy="1621080"/>
                <a:chOff x="69840" y="79200"/>
                <a:chExt cx="1098720" cy="162108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69840" y="79200"/>
                  <a:ext cx="1098720" cy="108000"/>
                  <a:chOff x="69840" y="79200"/>
                  <a:chExt cx="1098720" cy="108000"/>
                </a:xfrm>
              </p:grpSpPr>
              <p:sp>
                <p:nvSpPr>
                  <p:cNvPr id="4" name=""/>
                  <p:cNvSpPr/>
                  <p:nvPr/>
                </p:nvSpPr>
                <p:spPr>
                  <a:xfrm>
                    <a:off x="6984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" name=""/>
                  <p:cNvSpPr/>
                  <p:nvPr/>
                </p:nvSpPr>
                <p:spPr>
                  <a:xfrm>
                    <a:off x="270000" y="7920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471600" y="7920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67140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" name=""/>
                  <p:cNvSpPr/>
                  <p:nvPr/>
                </p:nvSpPr>
                <p:spPr>
                  <a:xfrm>
                    <a:off x="87156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" name=""/>
                  <p:cNvSpPr/>
                  <p:nvPr/>
                </p:nvSpPr>
                <p:spPr>
                  <a:xfrm>
                    <a:off x="107316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" name=""/>
                <p:cNvGrpSpPr/>
                <p:nvPr/>
              </p:nvGrpSpPr>
              <p:grpSpPr>
                <a:xfrm>
                  <a:off x="76320" y="298440"/>
                  <a:ext cx="1085760" cy="95400"/>
                  <a:chOff x="76320" y="298440"/>
                  <a:chExt cx="1085760" cy="9540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>
                    <a:off x="7632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276120" y="298440"/>
                    <a:ext cx="8100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477720" y="298440"/>
                    <a:ext cx="8100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67788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87804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107964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" name=""/>
                <p:cNvGrpSpPr/>
                <p:nvPr/>
              </p:nvGrpSpPr>
              <p:grpSpPr>
                <a:xfrm>
                  <a:off x="69840" y="509760"/>
                  <a:ext cx="1098720" cy="107640"/>
                  <a:chOff x="69840" y="509760"/>
                  <a:chExt cx="1098720" cy="107640"/>
                </a:xfrm>
              </p:grpSpPr>
              <p:sp>
                <p:nvSpPr>
                  <p:cNvPr id="18" name=""/>
                  <p:cNvSpPr/>
                  <p:nvPr/>
                </p:nvSpPr>
                <p:spPr>
                  <a:xfrm>
                    <a:off x="6984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270000" y="509760"/>
                    <a:ext cx="936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471600" y="509760"/>
                    <a:ext cx="936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67140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87156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107316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69840" y="727200"/>
                  <a:ext cx="1098720" cy="108000"/>
                  <a:chOff x="69840" y="727200"/>
                  <a:chExt cx="1098720" cy="10800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>
                    <a:off x="6984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270000" y="727200"/>
                    <a:ext cx="936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471600" y="727200"/>
                    <a:ext cx="936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67140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87156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107316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" name=""/>
                <p:cNvGrpSpPr/>
                <p:nvPr/>
              </p:nvGrpSpPr>
              <p:grpSpPr>
                <a:xfrm>
                  <a:off x="69840" y="941400"/>
                  <a:ext cx="1098720" cy="108000"/>
                  <a:chOff x="69840" y="941400"/>
                  <a:chExt cx="1098720" cy="108000"/>
                </a:xfrm>
              </p:grpSpPr>
              <p:sp>
                <p:nvSpPr>
                  <p:cNvPr id="32" name=""/>
                  <p:cNvSpPr/>
                  <p:nvPr/>
                </p:nvSpPr>
                <p:spPr>
                  <a:xfrm>
                    <a:off x="6984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270000" y="94140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71600" y="94140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67140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87156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107316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" name=""/>
                <p:cNvGrpSpPr/>
                <p:nvPr/>
              </p:nvGrpSpPr>
              <p:grpSpPr>
                <a:xfrm>
                  <a:off x="69840" y="1158840"/>
                  <a:ext cx="1098720" cy="108000"/>
                  <a:chOff x="69840" y="1158840"/>
                  <a:chExt cx="1098720" cy="108000"/>
                </a:xfrm>
              </p:grpSpPr>
              <p:sp>
                <p:nvSpPr>
                  <p:cNvPr id="39" name=""/>
                  <p:cNvSpPr/>
                  <p:nvPr/>
                </p:nvSpPr>
                <p:spPr>
                  <a:xfrm>
                    <a:off x="6984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270000" y="11588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471600" y="11588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67140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87156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107316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9840" y="1374840"/>
                  <a:ext cx="1098720" cy="108000"/>
                  <a:chOff x="69840" y="1374840"/>
                  <a:chExt cx="1098720" cy="10800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>
                    <a:off x="6984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270000" y="137484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471600" y="137484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67140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87156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107316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" name=""/>
                <p:cNvGrpSpPr/>
                <p:nvPr/>
              </p:nvGrpSpPr>
              <p:grpSpPr>
                <a:xfrm>
                  <a:off x="69840" y="1592280"/>
                  <a:ext cx="1098720" cy="108000"/>
                  <a:chOff x="69840" y="1592280"/>
                  <a:chExt cx="1098720" cy="108000"/>
                </a:xfrm>
              </p:grpSpPr>
              <p:sp>
                <p:nvSpPr>
                  <p:cNvPr id="53" name=""/>
                  <p:cNvSpPr/>
                  <p:nvPr/>
                </p:nvSpPr>
                <p:spPr>
                  <a:xfrm>
                    <a:off x="6984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270000" y="159228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471600" y="159228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67140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87156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07316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9" name=""/>
              <p:cNvGrpSpPr/>
              <p:nvPr/>
            </p:nvGrpSpPr>
            <p:grpSpPr>
              <a:xfrm>
                <a:off x="7927920" y="5099040"/>
                <a:ext cx="1096920" cy="1620720"/>
                <a:chOff x="7927920" y="5099040"/>
                <a:chExt cx="1096920" cy="1620720"/>
              </a:xfrm>
            </p:grpSpPr>
            <p:grpSp>
              <p:nvGrpSpPr>
                <p:cNvPr id="60" name=""/>
                <p:cNvGrpSpPr/>
                <p:nvPr/>
              </p:nvGrpSpPr>
              <p:grpSpPr>
                <a:xfrm>
                  <a:off x="7927920" y="5099040"/>
                  <a:ext cx="1096920" cy="108000"/>
                  <a:chOff x="7927920" y="5099040"/>
                  <a:chExt cx="1096920" cy="10800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>
                    <a:off x="7927920" y="509904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8126280" y="509904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8327880" y="509904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8528040" y="509904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8729640" y="509904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8931240" y="509904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" name=""/>
                <p:cNvGrpSpPr/>
                <p:nvPr/>
              </p:nvGrpSpPr>
              <p:grpSpPr>
                <a:xfrm>
                  <a:off x="7927920" y="5311800"/>
                  <a:ext cx="1096920" cy="108000"/>
                  <a:chOff x="7927920" y="5311800"/>
                  <a:chExt cx="1096920" cy="108000"/>
                </a:xfrm>
              </p:grpSpPr>
              <p:sp>
                <p:nvSpPr>
                  <p:cNvPr id="68" name=""/>
                  <p:cNvSpPr/>
                  <p:nvPr/>
                </p:nvSpPr>
                <p:spPr>
                  <a:xfrm>
                    <a:off x="7927920" y="531180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8126280" y="531180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8327880" y="531180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8528040" y="531180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8729640" y="531180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8931240" y="531180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7927920" y="5529240"/>
                  <a:ext cx="1096920" cy="108000"/>
                  <a:chOff x="7927920" y="5529240"/>
                  <a:chExt cx="1096920" cy="10800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>
                    <a:off x="7927920" y="55292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8126280" y="55292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8327880" y="55292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8528040" y="55292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8729640" y="55292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8931240" y="55292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" name=""/>
                <p:cNvGrpSpPr/>
                <p:nvPr/>
              </p:nvGrpSpPr>
              <p:grpSpPr>
                <a:xfrm>
                  <a:off x="7927920" y="5746680"/>
                  <a:ext cx="1096920" cy="108000"/>
                  <a:chOff x="7927920" y="5746680"/>
                  <a:chExt cx="1096920" cy="108000"/>
                </a:xfrm>
              </p:grpSpPr>
              <p:sp>
                <p:nvSpPr>
                  <p:cNvPr id="82" name=""/>
                  <p:cNvSpPr/>
                  <p:nvPr/>
                </p:nvSpPr>
                <p:spPr>
                  <a:xfrm>
                    <a:off x="7927920" y="574668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8126280" y="574668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8327880" y="574668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8528040" y="574668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729640" y="574668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8931240" y="574668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7927920" y="5961240"/>
                  <a:ext cx="1096920" cy="107640"/>
                  <a:chOff x="7927920" y="5961240"/>
                  <a:chExt cx="1096920" cy="10764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7927920" y="5961240"/>
                    <a:ext cx="936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8126280" y="5961240"/>
                    <a:ext cx="954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8327880" y="5961240"/>
                    <a:ext cx="954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8528040" y="5961240"/>
                    <a:ext cx="954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8729640" y="5961240"/>
                    <a:ext cx="936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8931240" y="5961240"/>
                    <a:ext cx="936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927920" y="6178680"/>
                  <a:ext cx="1096920" cy="108000"/>
                  <a:chOff x="7927920" y="6178680"/>
                  <a:chExt cx="1096920" cy="10800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>
                    <a:off x="7927920" y="617868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8126280" y="617868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8327880" y="617868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8528040" y="617868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8729640" y="617868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8931240" y="617868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" name=""/>
                <p:cNvGrpSpPr/>
                <p:nvPr/>
              </p:nvGrpSpPr>
              <p:grpSpPr>
                <a:xfrm>
                  <a:off x="7927920" y="6394320"/>
                  <a:ext cx="1096920" cy="108000"/>
                  <a:chOff x="7927920" y="6394320"/>
                  <a:chExt cx="1096920" cy="10800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>
                    <a:off x="7927920" y="639432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8126280" y="639432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8327880" y="639432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8528040" y="639432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8729640" y="639432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8931240" y="639432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" name=""/>
                <p:cNvGrpSpPr/>
                <p:nvPr/>
              </p:nvGrpSpPr>
              <p:grpSpPr>
                <a:xfrm>
                  <a:off x="7927920" y="6611760"/>
                  <a:ext cx="1096920" cy="108000"/>
                  <a:chOff x="7927920" y="6611760"/>
                  <a:chExt cx="1096920" cy="10800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>
                    <a:off x="7927920" y="661176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8126280" y="661176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8327880" y="661176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8528040" y="661176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8729640" y="661176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8931240" y="661176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16" name=""/>
            <p:cNvSpPr/>
            <p:nvPr/>
          </p:nvSpPr>
          <p:spPr>
            <a:xfrm>
              <a:off x="463680" y="482760"/>
              <a:ext cx="8216640" cy="5892480"/>
            </a:xfrm>
            <a:prstGeom prst="rect">
              <a:avLst/>
            </a:prstGeom>
            <a:solidFill>
              <a:srgbClr val="3e67bd"/>
            </a:solidFill>
            <a:ln w="12600">
              <a:solidFill>
                <a:srgbClr val="86a0d7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49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4520" y="6524640"/>
            <a:ext cx="3375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uter Network Research Group ITB - 199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16240" y="6524640"/>
            <a:ext cx="1351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- </a:t>
            </a:r>
            <a:fld id="{1BFE7556-863F-441B-AFA9-A19A8131DE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omain Name Service</a:t>
            </a:r>
            <a:br>
              <a:rPr sz="4400"/>
            </a:br>
            <a:br>
              <a:rPr sz="4400"/>
            </a:b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Ichwan F.Agu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 Network Research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UC on Microrelectron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578480" y="1682640"/>
            <a:ext cx="3873240" cy="37972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ell Known Top Level Domain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u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nsf.mit.ed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bm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nasa.g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navy.m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nsf.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ampr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other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Jep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Nether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Austra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Ingg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Jer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Thai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omain di Indonesi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 Level Doma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berapa Sub-Doma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.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emb. Pendidik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.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emb. Pemerintah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.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emb. Komers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.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emb. Non Prof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t.i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Network Provi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eberapa Konvensi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amaan sub-domain diserahkan sepenuhnya kepada pengelola domain ts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ain bersifat konsis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iap pengelola domain bebas menumbuhkan domainny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baiknya domain “memberi” art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DNS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ile-file yang dibutuhk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etc/named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executable fi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t script (default :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/etc/named.boo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on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S server run sebagai “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aem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 pro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boot scrip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pada boot scri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19320" y="2381400"/>
          <a:ext cx="6103800" cy="394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81400"/>
                    <a:ext cx="6103800" cy="39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Caching-only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nfigurasi minimal dari DNS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iap query akan diteruskan ke root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ache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db.ca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imary dan Secondary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server “memelihara” langsung zon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ary server sebagai “image” dari primary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ses updating dengan “zona transf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S server dapat merupakan primary dan secondary dari beberapa doma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65744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rimary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domain&gt;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zona fil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econdary &lt;domain&gt;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server&gt;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image fil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onto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recto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etc/named.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im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itb.ac.id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it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e.itb.ac.id 167.205.136.132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elkom.go.id 167.205.136.5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telk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ppt.go.id   202.46.1.2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b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026040" y="3282840"/>
            <a:ext cx="2121120" cy="189252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ppt.go.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30360" y="996840"/>
            <a:ext cx="1892160" cy="189252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lkom.go.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54240" y="3130560"/>
            <a:ext cx="2121120" cy="19684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959360" y="920880"/>
            <a:ext cx="2120760" cy="189216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e.itb.ac.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44560" y="4959360"/>
            <a:ext cx="1663560" cy="11304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4470120" y="2311560"/>
            <a:ext cx="584280" cy="78732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927320" y="2692440"/>
            <a:ext cx="507960" cy="71100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44720" y="2844720"/>
            <a:ext cx="482760" cy="63504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01920" y="2463840"/>
            <a:ext cx="558720" cy="63504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07040" y="3886200"/>
            <a:ext cx="86364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07040" y="4419720"/>
            <a:ext cx="787320" cy="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488680" y="4292640"/>
            <a:ext cx="584280" cy="63504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489040" y="4902120"/>
            <a:ext cx="965520" cy="101592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06840" y="5486400"/>
            <a:ext cx="78732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11960" y="5486400"/>
            <a:ext cx="787320" cy="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47600" y="5694480"/>
            <a:ext cx="1045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66160" y="5618160"/>
            <a:ext cx="87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everse Domain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etakan dari IP address ke host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perlukan untuk log file dan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 digunakan sebagai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 Level domain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in-addr.arp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Domain dibentuk dari IP address mulai dari Most Significant Dig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Obyektif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konsep D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pat menjalankan DNS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mpu membuat zon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prinsip “zona transf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cara setup resolv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ggunakan uitl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nslook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everse Domain Tre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3327120" y="1778040"/>
            <a:ext cx="1498680" cy="21589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54440" y="1682640"/>
            <a:ext cx="216000" cy="2160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92680" y="2825640"/>
            <a:ext cx="215640" cy="2160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273560" y="2292480"/>
            <a:ext cx="216000" cy="2156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61240" y="2036880"/>
            <a:ext cx="912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r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70160" y="2570040"/>
            <a:ext cx="1461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-add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68640" y="2978280"/>
            <a:ext cx="1816200" cy="596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1669680" y="2978280"/>
            <a:ext cx="2298600" cy="52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889000" y="2978280"/>
            <a:ext cx="1003320" cy="596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140360" y="3073320"/>
            <a:ext cx="1015920" cy="5587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11440" y="3429000"/>
            <a:ext cx="8254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57200" y="31035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6160" y="31798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624280" y="3027240"/>
            <a:ext cx="63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38480" y="3713040"/>
            <a:ext cx="63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3956040" y="4121280"/>
            <a:ext cx="1231920" cy="52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4641480" y="4121280"/>
            <a:ext cx="622440" cy="596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64280" y="4121280"/>
            <a:ext cx="596880" cy="596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59320" y="4140360"/>
            <a:ext cx="1778040" cy="5587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6560" y="4121280"/>
            <a:ext cx="2273400" cy="52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67280" y="4932360"/>
            <a:ext cx="63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19160" y="4780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57600" y="4780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94240" y="48610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11640" y="3587760"/>
            <a:ext cx="216000" cy="2160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016760" y="4654440"/>
            <a:ext cx="216000" cy="2160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ntoh Reverse Domai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 : Network dengan IP address klas B              167.205.xx.xx mempunyai reverse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205.167.in-addr.ar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 : Network dengan IP address klas C 196.3.6.xx mempunyai reverse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6.3.196.in-adr.ar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85800" y="666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eklarasi Reverse Domain Server pada boot scrip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203832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rmat (sbg primary dan secondar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imary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rev_domain&gt;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zona 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rev_domain&gt; &lt;server&gt;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zona 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to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imary   205.167.in-addr.arpa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167.205.2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 1.46.202.in-addr.arpa 202.46.1.2 db.2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andard Resource Record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Zona File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(Stndard Resource Record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of Authority Record (SO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Serv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ress Record (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l Exchanger Record (M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onical Name Record (CNA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t Information Record (HINF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ll Known Services Record (WK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art of Authority (SOA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zone] IN SOA origin contact 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e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refre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re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x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inim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Name Server Record (NS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DNS server untuk zona file  (Boleh lebih dari satu ho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domain] IN NS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ddress Record (A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IP address dari host-host yang terdapat pada zon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os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add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il Exchanger Record (MX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Mail Server untuk suatu domain ataupun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nam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   IN MX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preference 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nonical Name Record (CNAME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alias name untuk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nicknam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IN CNAME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y DNS...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1581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lasan dan Kenyata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usia “ingat” nama, komputer kenal ang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kembangan jaringan yang cukup pes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e 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/etc/host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memad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entralisasi pemeliharaan jaring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ost Information Record (HINFO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informasi singkat tentang hardware dan sistem operasi dari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os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 IN HONFO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ardware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ell Known Services Record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(WKS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berikan informasi tentang layanan yang disediakan oleh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os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 IN WKS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address protocol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ointer to Hostname (PTR)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(Untuk Reverse Domain Server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beri informasi hostname dari IP address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number_in_Class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 IN PTR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FQD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Cache Fi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unakan untuk mengakses root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99999999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NS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 ns.nic.ddn.m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ns.nic.ddn.mil 99999999 IN A 192.112.36.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art DNS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S server dapat di run apabila boot script dan zona file telah dibuat sebelumny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un dari Shel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# named -b /etc/named.bo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afd00"/>
                </a:solidFill>
                <a:latin typeface="Times New Roman"/>
              </a:rPr>
              <a:t>Konfigurasi Resolver</a:t>
            </a:r>
            <a:br>
              <a:rPr sz="4800"/>
            </a:br>
            <a:br>
              <a:rPr sz="48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agaimana Client mengakses DNS server..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ile </a:t>
            </a:r>
            <a:r>
              <a:rPr b="0" lang="en-US" sz="4000" spc="-1" strike="noStrike">
                <a:solidFill>
                  <a:srgbClr val="fafd00"/>
                </a:solidFill>
                <a:latin typeface="Courier New"/>
              </a:rPr>
              <a:t>/etc/resolv.conf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a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domain_name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IP_addr_DNS_Sercer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ain itb.ac.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r 167.205.22.1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NS dan Mai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gaimana Electronic Mail Menggunakan MX Record pada DNS Server..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gaimana mengirimkan E-mail ke host yang tidak menjalankan aplikasi Mail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angkah Pengiriman E-mai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te host akan mengirim pertama kali ke Mail Server dengan preference terendah (prioritas tertingg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te host dengan preference paling tinggi merupakan prioritas terend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X record dapat digunakan untuk Wide Domain Ali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insip Kerja D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492880" y="2368440"/>
            <a:ext cx="1092240" cy="1371600"/>
            <a:chOff x="5492880" y="2368440"/>
            <a:chExt cx="1092240" cy="1371600"/>
          </a:xfrm>
        </p:grpSpPr>
        <p:sp>
          <p:nvSpPr>
            <p:cNvPr id="165" name=""/>
            <p:cNvSpPr/>
            <p:nvPr/>
          </p:nvSpPr>
          <p:spPr>
            <a:xfrm>
              <a:off x="5537160" y="2417760"/>
              <a:ext cx="1047960" cy="13222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92880" y="236844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24360" y="273204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56320" y="299232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1835280" y="2368440"/>
            <a:ext cx="3340080" cy="18925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96280" y="4336920"/>
            <a:ext cx="1256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NS 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56960" y="4572000"/>
            <a:ext cx="702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09920" y="4572000"/>
            <a:ext cx="82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645160" y="2444760"/>
            <a:ext cx="1092240" cy="1371600"/>
            <a:chOff x="5645160" y="2444760"/>
            <a:chExt cx="1092240" cy="1371600"/>
          </a:xfrm>
        </p:grpSpPr>
        <p:sp>
          <p:nvSpPr>
            <p:cNvPr id="174" name=""/>
            <p:cNvSpPr/>
            <p:nvPr/>
          </p:nvSpPr>
          <p:spPr>
            <a:xfrm>
              <a:off x="5689440" y="2494080"/>
              <a:ext cx="1047960" cy="13222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45160" y="244476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877000" y="280836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08600" y="306864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797440" y="2597040"/>
            <a:ext cx="1092240" cy="1371600"/>
            <a:chOff x="5797440" y="2597040"/>
            <a:chExt cx="1092240" cy="1371600"/>
          </a:xfrm>
        </p:grpSpPr>
        <p:sp>
          <p:nvSpPr>
            <p:cNvPr id="179" name=""/>
            <p:cNvSpPr/>
            <p:nvPr/>
          </p:nvSpPr>
          <p:spPr>
            <a:xfrm>
              <a:off x="5842080" y="2646360"/>
              <a:ext cx="1047600" cy="13222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97440" y="259704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29280" y="296064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61240" y="322092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950080" y="2749680"/>
            <a:ext cx="1092240" cy="1371600"/>
            <a:chOff x="5950080" y="2749680"/>
            <a:chExt cx="1092240" cy="1371600"/>
          </a:xfrm>
        </p:grpSpPr>
        <p:sp>
          <p:nvSpPr>
            <p:cNvPr id="184" name=""/>
            <p:cNvSpPr/>
            <p:nvPr/>
          </p:nvSpPr>
          <p:spPr>
            <a:xfrm>
              <a:off x="5994360" y="2798640"/>
              <a:ext cx="1047960" cy="13226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50080" y="274968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81560" y="311292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13520" y="3373560"/>
              <a:ext cx="3110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102360" y="2901960"/>
            <a:ext cx="1092240" cy="1371600"/>
            <a:chOff x="6102360" y="2901960"/>
            <a:chExt cx="1092240" cy="1371600"/>
          </a:xfrm>
        </p:grpSpPr>
        <p:sp>
          <p:nvSpPr>
            <p:cNvPr id="189" name=""/>
            <p:cNvSpPr/>
            <p:nvPr/>
          </p:nvSpPr>
          <p:spPr>
            <a:xfrm>
              <a:off x="6146640" y="2951280"/>
              <a:ext cx="1047960" cy="13222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02360" y="290196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34200" y="326556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265800" y="352584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254640" y="3054240"/>
            <a:ext cx="1092240" cy="1371600"/>
            <a:chOff x="6254640" y="3054240"/>
            <a:chExt cx="1092240" cy="1371600"/>
          </a:xfrm>
        </p:grpSpPr>
        <p:sp>
          <p:nvSpPr>
            <p:cNvPr id="194" name=""/>
            <p:cNvSpPr/>
            <p:nvPr/>
          </p:nvSpPr>
          <p:spPr>
            <a:xfrm>
              <a:off x="6299280" y="3103560"/>
              <a:ext cx="1047600" cy="132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254640" y="3054240"/>
              <a:ext cx="1035000" cy="1309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86480" y="3417840"/>
              <a:ext cx="584280" cy="34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18440" y="3678120"/>
              <a:ext cx="31104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282840" y="2819520"/>
            <a:ext cx="52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9360" y="2819520"/>
            <a:ext cx="520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870440" y="3581280"/>
            <a:ext cx="6984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3269880" y="358128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4565160" y="4495680"/>
            <a:ext cx="6987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39840" y="4495680"/>
            <a:ext cx="52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87840" y="3422520"/>
            <a:ext cx="710280" cy="57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000b"/>
                </a:solidFill>
                <a:latin typeface="Times New Roman"/>
              </a:rPr>
              <a:t>D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000b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16360" y="2597040"/>
            <a:ext cx="1130400" cy="12826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sol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87560" y="2444760"/>
            <a:ext cx="1282680" cy="15876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CP/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ntoh Host dengan berbagai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il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ystem I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40 mail.bppt.go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 M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30 maingtw.itb.ac.i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 I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20 system.paume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atan : Prioritas tertinggi adalah host itu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dir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Utility nslookup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tuk mengetahui apakah DNS server dapat berjalan sebagaiman mestinya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enggunakan nslookup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ri shell prom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aingtw # nslookup itbgtw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erver: maingtw.paume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ddress: 0.0.0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Name: itbgtw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ddresses:167.205.22.101,167.205.20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enggunakan nslookup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ara Interakt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aingtw # nslook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erver:maingtw.paume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ddress:0.0.0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emeliharaan dan Updating D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gaimana perubahan zona file dapat diupdate oleh secondary server..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i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dating SOA diikuti dengan menambah serial numb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nakan beberapa seondary server untuk kehandalan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ordinasi dengan Adminintrator DNS lainny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dating root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formasi dari D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14600" y="1581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onical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l Excha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si Hardw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 Opera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t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273560" y="1530360"/>
            <a:ext cx="4406760" cy="34164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1530360"/>
            <a:ext cx="2882880" cy="34164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mplementasi D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49fff"/>
                </a:solidFill>
                <a:uFillTx/>
                <a:latin typeface="Arial"/>
              </a:rPr>
              <a:t>DNS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/etc/na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named.b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zona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7960" y="165744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49fff"/>
                </a:solidFill>
                <a:uFillTx/>
                <a:latin typeface="Arial"/>
              </a:rPr>
              <a:t>Resol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/etc/resolv.con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or /etc/host.con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mplementasi Host Tab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65744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 : 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/etc/h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 Penulis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ip_address&gt;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hostname&gt;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cnam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oh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 /etc/h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167.205.22.123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aingtw.paume.itb.ac.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167.205.22.124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ww.itb.ac.id.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127.0.0.1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local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lasan penggunaan </a:t>
            </a:r>
            <a:r>
              <a:rPr b="0" lang="en-US" sz="3200" spc="-1" strike="noStrike">
                <a:solidFill>
                  <a:srgbClr val="fafd00"/>
                </a:solidFill>
                <a:latin typeface="Courier New"/>
              </a:rPr>
              <a:t>/etc/host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mlah host pada jaringan sedik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ringan tidak terhubung ke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tc/host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unakan oleh NIS (pada Su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dak semua host menggunakan UN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op Level Domain 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an Sub-Domai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gelompokan sama seperti organisasi pemerintahan (negara, propinsi, kabupat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gelompokan berdasarkan keorganisa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iap hosts mempunyai FQD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QDN terdiri dari hostname dan domain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iap domain bisa “tumbuh” menjadi beberapa sub dom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0-01-01T00:12:22Z</dcterms:created>
  <dc:creator>Microsoft Corporation</dc:creator>
  <dc:description/>
  <dc:language>en-US</dc:language>
  <cp:lastModifiedBy>Onno W. Purbo</cp:lastModifiedBy>
  <cp:lastPrinted>1995-11-19T14:54:24Z</cp:lastPrinted>
  <dcterms:modified xsi:type="dcterms:W3CDTF">1999-04-19T03:10:55Z</dcterms:modified>
  <cp:revision>30</cp:revision>
  <dc:subject/>
  <dc:title>Domain Name Service</dc:title>
</cp:coreProperties>
</file>