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028D1-5A70-4F1D-9CA0-66FCA3C2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E3EFA-A769-4AE5-861B-8549998B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F760C-385D-46D5-9C38-E9D2A867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87C3F-2131-4577-9AF2-9D838E85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CCFF4-F05D-47F5-90F7-C13C73FB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1AFA3-020B-4097-8423-3EE7B29E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258E7-F6B8-4BD3-A2A0-CFA5489D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BA285-3B4F-4F59-9B12-78DB61C2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33493-B4FE-41DD-A167-03CBFF20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CBBDD-A256-4FFF-AD64-BCB569AE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9875A-C5B6-4898-8AA0-72F2F2AC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1CA08-2156-4B5A-8AD2-931FA2D6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SzPct val="80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029200" y="60958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6548400"/>
          <a:ext cx="914400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548400"/>
                    <a:ext cx="9144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A762-0E5E-42D7-9136-B049472383D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371600"/>
            <a:ext cx="84582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The Reality of NLOS: Cost, Coverage and Capacity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Michael D. Greenbaum</a:t>
            </a:r>
            <a:br>
              <a:rPr sz="30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esident &amp; CEO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ichael.greenbaum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ebruary 12, 200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INDUSTRY REQUIREMEN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 Second Generation Product: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 NLOS, 90% Coverag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 Low-Cost CPE &lt; $50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 Self-Installab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OPERATOR ROI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5410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apital Expenditu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BBW vs. Cable, DSL, Satellit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ayback Period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rket Sha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me to Market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Penetration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Expansion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ven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RPU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ered Servic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COMPLETE SYSTEM SOLUTION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426672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Modulation/Coding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Performance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qualization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High-Volume CPE Chips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Provision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ntennas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Network Managemen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91320" y="2286000"/>
          <a:ext cx="297180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286000"/>
                    <a:ext cx="297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04920" y="1828800"/>
          <a:ext cx="2286000" cy="22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828800"/>
                    <a:ext cx="228600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" name=""/>
          <p:cNvGrpSpPr/>
          <p:nvPr/>
        </p:nvGrpSpPr>
        <p:grpSpPr>
          <a:xfrm>
            <a:off x="3830760" y="1981080"/>
            <a:ext cx="969840" cy="1836720"/>
            <a:chOff x="3830760" y="1981080"/>
            <a:chExt cx="969840" cy="1836720"/>
          </a:xfrm>
        </p:grpSpPr>
        <p:graphicFrame>
          <p:nvGraphicFramePr>
            <p:cNvPr id="97" name=""/>
            <p:cNvGraphicFramePr/>
            <p:nvPr/>
          </p:nvGraphicFramePr>
          <p:xfrm>
            <a:off x="3830760" y="3040200"/>
            <a:ext cx="969840" cy="77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30760" y="3040200"/>
                      <a:ext cx="96984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3983040" y="1981080"/>
              <a:ext cx="762120" cy="762120"/>
            </a:xfrm>
            <a:prstGeom prst="diamond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3500000"/>
            </a:gradFill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63920" y="2743200"/>
              <a:ext cx="0" cy="3808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 rot="10800000">
            <a:off x="213336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236196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32004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281916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259056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3047760" y="2666520"/>
            <a:ext cx="759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525744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548604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632448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594324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71464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61722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BEGIN WITH A PROVEN SYSTEM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10,000 CPEs on One Base St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2,000 CPEs in One Sect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1 Mb/s Downstream on Fully Loaded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Field Failure Rate, &lt;0.25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ailure Recover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utomatic Restart and Return to Servi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NEW PRODUCT FOCU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igh Volume Chipsets 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dulation: SC, OFDM, CDM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qualiz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a Access Contro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visioning, Network Manag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vers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ADDRESSABLE MARKE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nternational and Domestic Market Size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- Layered System (up to 100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mall - Entry Level System (up to 2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6668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ONCLUSION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velop a Second Generation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Build on a Proven Product B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ocus on Key Product Featur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LOS, 90% Covera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Cost CPE &lt;$50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lf-Installa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eeting Varying Market Siz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cond Generation Solution = Improved Operator RO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20:40:28Z</dcterms:created>
  <dc:creator>TracyI</dc:creator>
  <dc:description/>
  <dc:language>en-US</dc:language>
  <cp:lastModifiedBy>TracyI</cp:lastModifiedBy>
  <cp:lastPrinted>2002-02-09T03:23:35Z</cp:lastPrinted>
  <dcterms:modified xsi:type="dcterms:W3CDTF">2002-02-09T04:53:59Z</dcterms:modified>
  <cp:revision>32</cp:revision>
  <dc:subject/>
  <dc:title>No Slide Title</dc:title>
</cp:coreProperties>
</file>