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E5D76EE-E3A9-4B86-A796-49B84EDEE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ptimal link rate – other rates could be support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 cost in the billions of 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pic>
        <p:nvPicPr>
          <p:cNvPr id="1" name="big_logo" descr=""/>
          <p:cNvPicPr/>
          <p:nvPr/>
        </p:nvPicPr>
        <p:blipFill>
          <a:blip r:embed="rId2"/>
          <a:stretch/>
        </p:blipFill>
        <p:spPr>
          <a:xfrm>
            <a:off x="144360" y="103320"/>
            <a:ext cx="1819440" cy="1647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89640" y="492120"/>
            <a:ext cx="4554360" cy="771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52720" y="244440"/>
            <a:ext cx="0" cy="78264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040" y="1027080"/>
            <a:ext cx="7095960" cy="652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338040"/>
                <a:tab algn="ctr" pos="4521240"/>
                <a:tab algn="r" pos="874728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ww.atheros.com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Atheros Communications, Inc.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fld id="{F266DF62-950E-4A82-82DB-528C4C0D96B6}" type="slidenum">
              <a:rPr b="0" lang="en-US" sz="10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08360" y="477720"/>
            <a:ext cx="4535640" cy="9622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g_logo" descr=""/>
          <p:cNvPicPr/>
          <p:nvPr/>
        </p:nvPicPr>
        <p:blipFill>
          <a:blip r:embed="rId2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726000" y="2192400"/>
            <a:ext cx="1440" cy="25956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riving" descr=""/>
          <p:cNvPicPr/>
          <p:nvPr/>
        </p:nvPicPr>
        <p:blipFill>
          <a:blip r:embed="rId3"/>
          <a:stretch/>
        </p:blipFill>
        <p:spPr>
          <a:xfrm>
            <a:off x="2136600" y="817560"/>
            <a:ext cx="3246480" cy="36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007720" y="244440"/>
            <a:ext cx="1800" cy="10764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05120" y="4768920"/>
            <a:ext cx="5438880" cy="3157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268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89280" y="2075040"/>
            <a:ext cx="54547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2</a:t>
            </a:r>
            <a:r>
              <a:rPr b="1" lang="en-US" sz="2400" spc="-1" strike="noStrike" baseline="30000">
                <a:solidFill>
                  <a:srgbClr val="993366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 Generation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Wireless LAN Opportunities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and Mass Adoption Challenges</a:t>
            </a: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theros Communications, Inc. | www.atheros.co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56920" y="4764240"/>
            <a:ext cx="44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eb 13, 2002 – Broadband Wireless World 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726000"/>
            <a:ext cx="4962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 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duct Lin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@athero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2870280" y="2009880"/>
            <a:ext cx="320364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1g Draf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76600" y="5700600"/>
            <a:ext cx="3697200" cy="459720"/>
          </a:xfrm>
          <a:prstGeom prst="rect">
            <a:avLst/>
          </a:prstGeom>
          <a:solidFill>
            <a:srgbClr val="15bd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ixed mod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ow the 11g Draf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353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32280" y="317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260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915080" y="3168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167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23080" y="3156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071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94720" y="3166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49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37240" y="3160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31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635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542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59040" y="316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41840" y="316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978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890120" y="31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1836000" y="2364120"/>
            <a:ext cx="476280" cy="3002040"/>
          </a:xfrm>
          <a:custGeom>
            <a:avLst/>
            <a:gdLst>
              <a:gd name="textAreaLeft" fmla="*/ 304200 w 476280"/>
              <a:gd name="textAreaRight" fmla="*/ 476640 w 476280"/>
              <a:gd name="textAreaTop" fmla="*/ 78120 h 3002040"/>
              <a:gd name="textAreaBottom" fmla="*/ 2923920 h 300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98080" y="414324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1b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6269040" y="1891800"/>
            <a:ext cx="476280" cy="3994200"/>
          </a:xfrm>
          <a:custGeom>
            <a:avLst/>
            <a:gdLst>
              <a:gd name="textAreaLeft" fmla="*/ 304200 w 476280"/>
              <a:gd name="textAreaRight" fmla="*/ 476640 w 476280"/>
              <a:gd name="textAreaTop" fmla="*/ 104040 h 3994200"/>
              <a:gd name="textAreaBottom" fmla="*/ 3890160 h 399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08960" y="416736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FDM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424160" y="5850000"/>
            <a:ext cx="6940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5467320"/>
            <a:ext cx="68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2880" y="4006800"/>
            <a:ext cx="691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77800" y="2765520"/>
            <a:ext cx="692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pport More Users at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6630840" y="1905120"/>
            <a:ext cx="1417680" cy="428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13120" y="2114640"/>
            <a:ext cx="4371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21120" y="2152800"/>
            <a:ext cx="2489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92200" y="2509920"/>
            <a:ext cx="19828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420560" y="6205680"/>
            <a:ext cx="693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22360" y="2565360"/>
            <a:ext cx="0" cy="36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8040" y="2114640"/>
            <a:ext cx="34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roughput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(Mbps/networ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6022800"/>
            <a:ext cx="1828800" cy="16056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28880" y="5888160"/>
            <a:ext cx="1411560" cy="30312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7320" y="570996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37120" y="3459240"/>
            <a:ext cx="1416240" cy="27288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26017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8160" y="5266800"/>
            <a:ext cx="6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040" y="3852360"/>
            <a:ext cx="6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95840" y="5326200"/>
            <a:ext cx="1279800" cy="863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09640" y="2943360"/>
            <a:ext cx="20574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3565800"/>
            <a:ext cx="1835280" cy="30708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11g (draf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048120"/>
            <a:ext cx="1828800" cy="34920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28800" y="4062600"/>
            <a:ext cx="1809720" cy="30708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4 GHz 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3480" y="6326280"/>
            <a:ext cx="23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ource: Agere, Ath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06440" y="1854360"/>
            <a:ext cx="4254480" cy="458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Interferers means Ease of Us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38120" y="1896840"/>
            <a:ext cx="494208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band is congested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nd interferers can affect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tup and operation of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licting wireless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xed wireless broadb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dless ph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wave ove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m (Amateur) Rad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han 100 MHz availabl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 to 3 usable channel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51360" y="1841400"/>
            <a:ext cx="4076640" cy="4584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884240"/>
            <a:ext cx="424800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 GHz band is clean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pectrum opera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der rules preven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arrowband interfe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onflicting protocols allow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rue QoS and new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15 UNII spectrum rul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 cordless phone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olocation satellites and Radars remote or in other par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300 MHz avail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 to 19 usable channels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yth of 2.4 GHz Range Advanta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tors in WLAN System Ran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54520" y="3056040"/>
            <a:ext cx="13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0080" y="349416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76960" y="3505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96120" y="395460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9840" y="395136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57200" y="4844880"/>
            <a:ext cx="8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509112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97480" y="510228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36080" y="586728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x 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95640" y="61135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02160" y="6124680"/>
            <a:ext cx="4780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080" y="5345280"/>
            <a:ext cx="15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lay Sp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67200" y="559116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73720" y="5602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5960" y="1108080"/>
            <a:ext cx="7448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1a/b Measured Link Rat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Link rates of 802.11a are 2 to 5 times those of 802.11b </a:t>
            </a:r>
            <a:br>
              <a:rPr sz="1800"/>
            </a:b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at the same distance in actual tests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 rot="10800000">
            <a:off x="1019160" y="2838240"/>
            <a:ext cx="45468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 Rate (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35320" y="599904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 (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rcRect l="11077" t="9388" r="4431" b="6776"/>
          <a:stretch/>
        </p:blipFill>
        <p:spPr>
          <a:xfrm>
            <a:off x="1536840" y="2730600"/>
            <a:ext cx="6665760" cy="33559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2478240" y="3132000"/>
            <a:ext cx="5238720" cy="2430360"/>
            <a:chOff x="2478240" y="3132000"/>
            <a:chExt cx="5238720" cy="2430360"/>
          </a:xfrm>
        </p:grpSpPr>
        <p:sp>
          <p:nvSpPr>
            <p:cNvPr id="548" name=""/>
            <p:cNvSpPr/>
            <p:nvPr/>
          </p:nvSpPr>
          <p:spPr>
            <a:xfrm>
              <a:off x="2546640" y="3132000"/>
              <a:ext cx="0" cy="1961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78240" y="4255560"/>
              <a:ext cx="66204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5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83600" y="5325120"/>
              <a:ext cx="3240" cy="237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97680" y="4834800"/>
              <a:ext cx="71928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3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ill MANY Wireless Challenges Ahead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2320" y="1760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ing ++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(802.11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management, Scheduling, QoS (802.11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ming, InterAccess Point Communications (802.11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adio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cy in the use of spectru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range of “impairments” to be man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ing interference (co-channel and adjacent chann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tory (international acceptance) (802.11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ortabilit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li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urity in Wireless LA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ere are three layers to wireless security, each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elies on and complements the other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44640" y="318924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, D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57280" y="4098960"/>
            <a:ext cx="5646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6880" y="424008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36760" y="516420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27560" y="5305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, TKIP, 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9160" y="417528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4920" y="528480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95800" y="371628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91120" y="476892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lication Securit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VPN’s provide end-to-end application security but creating a secure “tunnel” from the client to the server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57240" y="3189240"/>
            <a:ext cx="32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 (Virtual Privat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63640" y="4079880"/>
            <a:ext cx="6705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st level of security from one end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complex and requires most effort to ma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s performance, so hard to scale to large deploy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uthentic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x verifies that clients have the credentials to be on the network and increases the security of a data link 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16080" y="31892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2360" y="310824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3640" y="4079880"/>
            <a:ext cx="753264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s networks easier to manage by using extensible authentication methods to regulate access to a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the security of a data link by refreshing WLAN encryptio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ened by poor data link level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, HiSW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nk Encryp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Encryption keeps intruders from eavesdropping on a link, but are dependent on a secure ke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2351160" y="304812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92080" y="318924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0560" y="310824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63640" y="4079880"/>
            <a:ext cx="7823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E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iginal Wired Equivalent Privacy protocol can be cracked by collecting and analyzing a sufficient amount of data – it needs either a VPN or 802.1x rekeying to be mad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KI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oral Key Initialization Protocol is a modification of WEP to defend against known at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E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dvanced Encryption System is the one designated by the US Govt to replace the 3DES system commonly used in financial and other secur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08560" y="304164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15640" y="31827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T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83240" y="3048120"/>
            <a:ext cx="121932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22720" y="318924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56160" y="335268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27600" y="335916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60640" y="3832200"/>
            <a:ext cx="4049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90560" y="38401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95120" y="1150920"/>
            <a:ext cx="7080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ern 802.11a Products are Highly Integrate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676520" y="2549520"/>
            <a:ext cx="6403680" cy="30369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320" y="4699080"/>
            <a:ext cx="144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Digital Chip:  MAC, Base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rocessor, ADCs, DAC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447920" y="4606560"/>
            <a:ext cx="1447560" cy="7621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666880" y="3997440"/>
            <a:ext cx="91440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575316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Chip:  Power amp, LNA, VCO, SAW filtration, Frequency conversion, Frequency synthesizers, Variable gain am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0600" y="4454640"/>
            <a:ext cx="1371600" cy="13716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9320" y="252576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eg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90920" y="2778120"/>
            <a:ext cx="1554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048120" y="34639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8120" y="346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590920" y="376884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590920" y="277812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2778120"/>
            <a:ext cx="1219320" cy="5335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3463920"/>
            <a:ext cx="457200" cy="380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4560" y="369252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66680" y="3768480"/>
            <a:ext cx="2210040" cy="152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143240" y="277164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525480" y="3762360"/>
            <a:ext cx="6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48160" y="4016520"/>
            <a:ext cx="609480" cy="609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86400" y="3387600"/>
            <a:ext cx="380880" cy="38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07800" y="179532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5715000" y="2091960"/>
            <a:ext cx="990720" cy="15238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92800" y="4762440"/>
            <a:ext cx="498240" cy="311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23400" y="567360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32MHz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495320" y="4987800"/>
            <a:ext cx="228600" cy="6858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685440" y="2004480"/>
            <a:ext cx="826308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Verdana"/>
              </a:rPr>
              <a:t>Closing the gap with wired</a:t>
            </a:r>
            <a:endParaRPr b="1" lang="en-US" sz="22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eless PCMCIA connections relative to wired (wired =1)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86080" y="516888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86080" y="46530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86080" y="41292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486080" y="361332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86080" y="309708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080" y="3097080"/>
            <a:ext cx="144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09760" y="56847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09760" y="516888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09760" y="46530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86080" y="568476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48608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78136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076640" y="5684400"/>
            <a:ext cx="18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6112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65640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86080" y="3359160"/>
            <a:ext cx="1295280" cy="460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81360" y="3819600"/>
            <a:ext cx="1295280" cy="412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76640" y="4232160"/>
            <a:ext cx="1284480" cy="214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61120" y="4446720"/>
            <a:ext cx="1295280" cy="1029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86080" y="5581800"/>
            <a:ext cx="129528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81360" y="5581800"/>
            <a:ext cx="1295280" cy="6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106880" y="5144760"/>
            <a:ext cx="1284120" cy="444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61120" y="4652640"/>
            <a:ext cx="1295280" cy="47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57280" y="3335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52560" y="379584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48200" y="4208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2320" y="442260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7960" y="4511520"/>
            <a:ext cx="42840" cy="619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57280" y="555768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52560" y="5557680"/>
            <a:ext cx="4788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48200" y="554976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2320" y="5105520"/>
            <a:ext cx="4788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27960" y="462924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87640" y="5565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62640" y="504972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7640" y="45338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62640" y="401004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87640" y="34941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62640" y="297828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6612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6140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70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4116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364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32680" y="4129200"/>
            <a:ext cx="12286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09000" y="4280040"/>
            <a:ext cx="257040" cy="1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04040" y="425592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00320" y="415296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09000" y="4541760"/>
            <a:ext cx="25704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04040" y="451800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17960" y="441468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bility without Cos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1403280" y="41227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01840" y="361800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15880" y="309240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me Conclusions 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licensed spectra and CMOS technology will combine to allow ubiquitous, low-cost, IP based wireless access (WLAN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, and 802.11a in particular, will dominate this WLAN landscape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LANs are exciting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nd exponentially gro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innovation is rapid, continuing (hard problems to solv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tal impacts have but begun to be seen (rapid chan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79" name=""/>
          <p:cNvSpPr/>
          <p:nvPr/>
        </p:nvSpPr>
        <p:spPr>
          <a:xfrm>
            <a:off x="1703520" y="126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uture: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016160" y="47642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July 2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44800" y="2195280"/>
            <a:ext cx="495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523880" y="-422280"/>
            <a:ext cx="11741040" cy="820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49280"/>
            <a:ext cx="9144000" cy="9619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125424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83120" y="3944880"/>
            <a:ext cx="4160880" cy="572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big_logo" descr=""/>
          <p:cNvPicPr/>
          <p:nvPr/>
        </p:nvPicPr>
        <p:blipFill>
          <a:blip r:embed="rId1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pic>
        <p:nvPicPr>
          <p:cNvPr id="689" name="driving" descr=""/>
          <p:cNvPicPr/>
          <p:nvPr/>
        </p:nvPicPr>
        <p:blipFill>
          <a:blip r:embed="rId2"/>
          <a:stretch/>
        </p:blipFill>
        <p:spPr>
          <a:xfrm>
            <a:off x="3336840" y="3425760"/>
            <a:ext cx="554508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197080" y="3241800"/>
            <a:ext cx="3719520" cy="998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72960" y="4597560"/>
            <a:ext cx="3776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63040" y="4059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50480" y="3645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ka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86440" y="438948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9360" y="2009880"/>
            <a:ext cx="824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 is the clear winner (Wireless Ethernet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Ethernet is familiar, IP based, immediately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ly supported, deployed on access points and s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for computing, consumer electronics, telematics ap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iperLAN2, HiSWANa will not be volume market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ging to existence with QoS and DFS/T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($, wireless ATM), late, centralized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European, Japan manufacturers now 802.11 suppor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omeRF is overshadowe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RF 2.0 is too little, too l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has dropped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Bluetooth is for personal area networks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, efficiency, system capacity lim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96960" y="1133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icensed Winner: 802.1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454480" y="1133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802.11 is Everywhe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MoxiProductFamily2" descr=""/>
          <p:cNvPicPr/>
          <p:nvPr/>
        </p:nvPicPr>
        <p:blipFill>
          <a:blip r:embed="rId1"/>
          <a:stretch/>
        </p:blipFill>
        <p:spPr>
          <a:xfrm>
            <a:off x="3684600" y="3032280"/>
            <a:ext cx="239076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75160" y="1728720"/>
            <a:ext cx="2079360" cy="1535040"/>
          </a:xfrm>
          <a:prstGeom prst="rect">
            <a:avLst/>
          </a:prstGeom>
          <a:ln w="0">
            <a:noFill/>
          </a:ln>
        </p:spPr>
      </p:pic>
      <p:pic>
        <p:nvPicPr>
          <p:cNvPr id="115" name="Proxim_ap_pccard" descr=""/>
          <p:cNvPicPr/>
          <p:nvPr/>
        </p:nvPicPr>
        <p:blipFill>
          <a:blip r:embed="rId3"/>
          <a:stretch/>
        </p:blipFill>
        <p:spPr>
          <a:xfrm>
            <a:off x="1389240" y="2935440"/>
            <a:ext cx="1774800" cy="1627200"/>
          </a:xfrm>
          <a:prstGeom prst="rect">
            <a:avLst/>
          </a:prstGeom>
          <a:ln w="0">
            <a:noFill/>
          </a:ln>
        </p:spPr>
      </p:pic>
      <p:pic>
        <p:nvPicPr>
          <p:cNvPr id="116" name="IBM_ThinkPad@ThinkPad_T_Series" descr=""/>
          <p:cNvPicPr/>
          <p:nvPr/>
        </p:nvPicPr>
        <p:blipFill>
          <a:blip r:embed="rId4"/>
          <a:stretch/>
        </p:blipFill>
        <p:spPr>
          <a:xfrm>
            <a:off x="372960" y="1728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Intel_AP_w_cards2" descr=""/>
          <p:cNvPicPr/>
          <p:nvPr/>
        </p:nvPicPr>
        <p:blipFill>
          <a:blip r:embed="rId5"/>
          <a:stretch/>
        </p:blipFill>
        <p:spPr>
          <a:xfrm>
            <a:off x="760320" y="4292640"/>
            <a:ext cx="1455840" cy="129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0984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nsumer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9748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Vehicul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040" y="5676840"/>
            <a:ext cx="238608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mpu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021200" y="4299120"/>
          <a:ext cx="1514520" cy="132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21200" y="4299120"/>
                    <a:ext cx="15145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ov_mn_sm_photo" descr=""/>
          <p:cNvPicPr/>
          <p:nvPr/>
        </p:nvPicPr>
        <p:blipFill>
          <a:blip r:embed="rId8"/>
          <a:stretch/>
        </p:blipFill>
        <p:spPr>
          <a:xfrm>
            <a:off x="6491160" y="3876840"/>
            <a:ext cx="2222640" cy="13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451560" y="2286000"/>
          <a:ext cx="216216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51560" y="2286000"/>
                    <a:ext cx="21621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7021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LAN Data Attractivenes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2680" y="1982880"/>
          <a:ext cx="8485200" cy="4236840"/>
        </p:xfrm>
        <a:graphic>
          <a:graphicData uri="http://schemas.openxmlformats.org/drawingml/2006/table">
            <a:tbl>
              <a:tblPr/>
              <a:tblGrid>
                <a:gridCol w="2828880"/>
                <a:gridCol w="3021120"/>
                <a:gridCol w="2635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.5 MHz+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MHz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Hz channel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Hz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Gb/Wh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4Mbps @ 1.4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 Gb/Wh (2G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Kbps @ 1.3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tation ~$150 &amp; d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t more costly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laptops, PDAs, home, enterprise, public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ment just 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Future is in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49440" y="24922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152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67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2416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65680" y="24145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152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11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59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096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0860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08600" y="2432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4800" y="2419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5480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24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042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5188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03400" y="2116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440" y="17334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2 GHz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78040" y="2098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00480" y="2097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6960" y="2092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920" y="2089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6400" y="208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70520" y="2079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92960" y="2090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0200" y="2085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23160" y="208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9640" y="20779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0" y="2351160"/>
            <a:ext cx="503280" cy="3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36100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540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6068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1804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920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776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540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0540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304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54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02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2480" y="3549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0068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4832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959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77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4540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96920" y="323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4960" y="2851200"/>
            <a:ext cx="25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U.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71920" y="3216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94000" y="3214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0480" y="32097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3440" y="3206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0280" y="3201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64040" y="3197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86480" y="3208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4080" y="3203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16680" y="3200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3520" y="3195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54240" y="3478320"/>
            <a:ext cx="1417680" cy="33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04000" y="3478320"/>
            <a:ext cx="874800" cy="3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4920" y="3478320"/>
            <a:ext cx="51912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160" y="471492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060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8588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324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476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296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3060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30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78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004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2768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27680" y="4654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624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388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388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2152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22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0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2480" y="4338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3956040"/>
            <a:ext cx="27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97120" y="4321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9560" y="4319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6040" y="4314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99000" y="431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5480" y="4307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89600" y="4302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12040" y="4313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99280" y="4308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2240" y="4305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78720" y="4300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9800" y="4583160"/>
            <a:ext cx="141732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29000" y="4583160"/>
            <a:ext cx="1596960" cy="333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560" y="571824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800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328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3064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7180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7036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1800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1800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656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674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508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15080" y="5657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13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61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6128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892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1036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5800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09880" y="5342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2960" y="4959360"/>
            <a:ext cx="26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84520" y="532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06600" y="532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3440" y="53182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86400" y="5315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22880" y="53103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77000" y="5305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99080" y="5316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86680" y="5311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29640" y="5308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66120" y="530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66840" y="5586480"/>
            <a:ext cx="757440" cy="333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66080" y="3865680"/>
            <a:ext cx="361800" cy="2212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05520" y="6033960"/>
            <a:ext cx="31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ew Allocation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Vehicular (Telematics) Appl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157400" y="2122560"/>
          <a:ext cx="6986520" cy="3798720"/>
        </p:xfrm>
        <a:graphic>
          <a:graphicData uri="http://schemas.openxmlformats.org/drawingml/2006/table">
            <a:tbl>
              <a:tblPr/>
              <a:tblGrid>
                <a:gridCol w="2144520"/>
                <a:gridCol w="2422440"/>
                <a:gridCol w="24195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b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 per Chann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1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54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 of Operation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-2.483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5-5.35GHz,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25-5.82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 Bandwidth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5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+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Non-Overlapping Channel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ation Typ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D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234440" y="352908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00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 / 0.72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1600" y="231948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SSS / CCK (1-8 bits/se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2840" y="173196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43920" y="35337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19000" y="229392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FDM (52 sub-carr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70440" y="2590920"/>
            <a:ext cx="3852720" cy="1471680"/>
            <a:chOff x="4870440" y="2590920"/>
            <a:chExt cx="3852720" cy="1471680"/>
          </a:xfrm>
        </p:grpSpPr>
        <p:sp>
          <p:nvSpPr>
            <p:cNvPr id="273" name=""/>
            <p:cNvSpPr/>
            <p:nvPr/>
          </p:nvSpPr>
          <p:spPr>
            <a:xfrm>
              <a:off x="4870440" y="3389040"/>
              <a:ext cx="38527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2196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1980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785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57676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362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7355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9284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8928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505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0498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71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2071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48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364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14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21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787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6783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36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8356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58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580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11880" y="25909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74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7400" y="3473280"/>
              <a:ext cx="3538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662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014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7007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135840" y="170028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24920" y="4114800"/>
            <a:ext cx="4345560" cy="1305360"/>
            <a:chOff x="4624920" y="4114800"/>
            <a:chExt cx="4345560" cy="1305360"/>
          </a:xfrm>
        </p:grpSpPr>
        <p:grpSp>
          <p:nvGrpSpPr>
            <p:cNvPr id="304" name=""/>
            <p:cNvGrpSpPr/>
            <p:nvPr/>
          </p:nvGrpSpPr>
          <p:grpSpPr>
            <a:xfrm>
              <a:off x="4624920" y="4114800"/>
              <a:ext cx="915120" cy="1305360"/>
              <a:chOff x="4624920" y="4114800"/>
              <a:chExt cx="915120" cy="130536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4632120" y="4114800"/>
                <a:ext cx="907920" cy="915480"/>
                <a:chOff x="4632120" y="4114800"/>
                <a:chExt cx="907920" cy="91548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4632120" y="4114800"/>
                  <a:ext cx="907920" cy="915480"/>
                  <a:chOff x="4632120" y="4114800"/>
                  <a:chExt cx="907920" cy="9154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V="1">
                    <a:off x="463212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08608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4717800" y="4502160"/>
                  <a:ext cx="736560" cy="141120"/>
                  <a:chOff x="4717800" y="4502160"/>
                  <a:chExt cx="736560" cy="141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471780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31468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2" name=""/>
              <p:cNvSpPr/>
              <p:nvPr/>
            </p:nvSpPr>
            <p:spPr>
              <a:xfrm>
                <a:off x="4624920" y="502128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754600" y="4114800"/>
              <a:ext cx="907920" cy="1305360"/>
              <a:chOff x="5754600" y="4114800"/>
              <a:chExt cx="907920" cy="13053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5754600" y="4114800"/>
                <a:ext cx="907920" cy="915480"/>
                <a:chOff x="5754600" y="4114800"/>
                <a:chExt cx="907920" cy="91548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54600" y="4114800"/>
                  <a:ext cx="907920" cy="915480"/>
                  <a:chOff x="5754600" y="4114800"/>
                  <a:chExt cx="907920" cy="9154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V="1">
                    <a:off x="575460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20856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910120" y="4273560"/>
                  <a:ext cx="596160" cy="597960"/>
                  <a:chOff x="5910120" y="4273560"/>
                  <a:chExt cx="596160" cy="597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91012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36696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91012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36696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>
                <a:off x="5759280" y="502128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05440" y="4114800"/>
              <a:ext cx="1058400" cy="1305360"/>
              <a:chOff x="6805440" y="4114800"/>
              <a:chExt cx="1058400" cy="13053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879960" y="4114800"/>
                <a:ext cx="907920" cy="915480"/>
                <a:chOff x="6879960" y="4114800"/>
                <a:chExt cx="907920" cy="91548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6879960" y="4114800"/>
                  <a:ext cx="907920" cy="915480"/>
                  <a:chOff x="6879960" y="4114800"/>
                  <a:chExt cx="907920" cy="9154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687996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33392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921360" y="4159080"/>
                  <a:ext cx="825480" cy="827280"/>
                  <a:chOff x="6921360" y="4159080"/>
                  <a:chExt cx="825480" cy="8272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69213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3785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9213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3785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9213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3785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213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3785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1499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6071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1499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6071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1499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6071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1499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6071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680544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16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912080" y="4114800"/>
              <a:ext cx="1058400" cy="1305360"/>
              <a:chOff x="7912080" y="4114800"/>
              <a:chExt cx="1058400" cy="13053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988040" y="4114800"/>
                <a:ext cx="907920" cy="915480"/>
                <a:chOff x="7988040" y="4114800"/>
                <a:chExt cx="907920" cy="91548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8005320" y="4132080"/>
                  <a:ext cx="874800" cy="880920"/>
                  <a:chOff x="8005320" y="4132080"/>
                  <a:chExt cx="874800" cy="8809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80053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4625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82339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6911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1198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5770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3484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8807040" y="48240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80053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84625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2339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6911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1198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5770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83484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880704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80053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625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82339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86911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81198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5770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83484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8807040" y="45921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80053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84625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82339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86911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1198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85770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83484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880704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80053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84625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82339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6911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1198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5770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3484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880704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0053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84625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82339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6911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81198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85770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3484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880704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0053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4625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82339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6911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81198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5770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3484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80704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80053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4625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82339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86911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1198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85770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83484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880704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988040" y="4114800"/>
                  <a:ext cx="907920" cy="915480"/>
                  <a:chOff x="7988040" y="4114800"/>
                  <a:chExt cx="907920" cy="9154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798804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844200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7" name=""/>
              <p:cNvSpPr/>
              <p:nvPr/>
            </p:nvSpPr>
            <p:spPr>
              <a:xfrm>
                <a:off x="791208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64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564440" y="538956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/2, 2/3, 3/4-rate convolution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87200">
            <a:off x="5133600" y="356076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1147000">
            <a:off x="5971680" y="354780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589400">
            <a:off x="7356600" y="352224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20269200">
            <a:off x="8153280" y="3514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58720" y="5942160"/>
            <a:ext cx="8086680" cy="459720"/>
            <a:chOff x="558720" y="5942160"/>
            <a:chExt cx="8086680" cy="459720"/>
          </a:xfrm>
        </p:grpSpPr>
        <p:sp>
          <p:nvSpPr>
            <p:cNvPr id="424" name=""/>
            <p:cNvSpPr/>
            <p:nvPr/>
          </p:nvSpPr>
          <p:spPr>
            <a:xfrm>
              <a:off x="558720" y="5942160"/>
              <a:ext cx="328932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Reduced complex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8200" y="5942160"/>
              <a:ext cx="369720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Increased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205640" y="4121280"/>
            <a:ext cx="2037600" cy="1305360"/>
            <a:chOff x="1205640" y="4121280"/>
            <a:chExt cx="2037600" cy="1305360"/>
          </a:xfrm>
        </p:grpSpPr>
        <p:grpSp>
          <p:nvGrpSpPr>
            <p:cNvPr id="427" name=""/>
            <p:cNvGrpSpPr/>
            <p:nvPr/>
          </p:nvGrpSpPr>
          <p:grpSpPr>
            <a:xfrm>
              <a:off x="1205640" y="4121280"/>
              <a:ext cx="915120" cy="1305360"/>
              <a:chOff x="1205640" y="4121280"/>
              <a:chExt cx="915120" cy="13053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212840" y="4121280"/>
                <a:ext cx="907920" cy="915480"/>
                <a:chOff x="1212840" y="4121280"/>
                <a:chExt cx="907920" cy="91548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1212840" y="4121280"/>
                  <a:ext cx="907920" cy="915480"/>
                  <a:chOff x="1212840" y="4121280"/>
                  <a:chExt cx="907920" cy="9154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121284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66680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1298520" y="4508640"/>
                  <a:ext cx="736560" cy="141120"/>
                  <a:chOff x="1298520" y="4508640"/>
                  <a:chExt cx="736560" cy="14112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29852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89540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1205640" y="502776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335320" y="4121280"/>
              <a:ext cx="907920" cy="1305360"/>
              <a:chOff x="2335320" y="4121280"/>
              <a:chExt cx="907920" cy="13053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2335320" y="4121280"/>
                <a:ext cx="907920" cy="915480"/>
                <a:chOff x="2335320" y="4121280"/>
                <a:chExt cx="907920" cy="9154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2335320" y="4121280"/>
                  <a:ext cx="907920" cy="915480"/>
                  <a:chOff x="2335320" y="4121280"/>
                  <a:chExt cx="907920" cy="915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33532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78928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2490840" y="4280040"/>
                  <a:ext cx="596160" cy="597960"/>
                  <a:chOff x="2490840" y="4280040"/>
                  <a:chExt cx="596160" cy="5979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249084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94768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49084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94768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6" name=""/>
              <p:cNvSpPr/>
              <p:nvPr/>
            </p:nvSpPr>
            <p:spPr>
              <a:xfrm>
                <a:off x="2340000" y="502776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633240" y="2792520"/>
            <a:ext cx="3469680" cy="545760"/>
            <a:chOff x="633240" y="2792520"/>
            <a:chExt cx="3469680" cy="545760"/>
          </a:xfrm>
        </p:grpSpPr>
        <p:sp>
          <p:nvSpPr>
            <p:cNvPr id="448" name=""/>
            <p:cNvSpPr/>
            <p:nvPr/>
          </p:nvSpPr>
          <p:spPr>
            <a:xfrm>
              <a:off x="633240" y="3065400"/>
              <a:ext cx="346968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3240" y="2792520"/>
              <a:ext cx="3469680" cy="54576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  <a:lnTo>
                    <a:pt x="192" y="336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336"/>
                  </a:lnTo>
                  <a:lnTo>
                    <a:pt x="480" y="336"/>
                  </a:lnTo>
                  <a:lnTo>
                    <a:pt x="480" y="0"/>
                  </a:lnTo>
                  <a:lnTo>
                    <a:pt x="768" y="0"/>
                  </a:lnTo>
                  <a:lnTo>
                    <a:pt x="768" y="336"/>
                  </a:lnTo>
                  <a:lnTo>
                    <a:pt x="1056" y="336"/>
                  </a:lnTo>
                </a:path>
              </a:pathLst>
            </a:custGeom>
            <a:noFill/>
            <a:ln w="38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95440" y="3473280"/>
            <a:ext cx="35384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95440" y="3398760"/>
            <a:ext cx="3538440" cy="155520"/>
            <a:chOff x="595440" y="3398760"/>
            <a:chExt cx="3538440" cy="155520"/>
          </a:xfrm>
        </p:grpSpPr>
        <p:sp>
          <p:nvSpPr>
            <p:cNvPr id="452" name=""/>
            <p:cNvSpPr/>
            <p:nvPr/>
          </p:nvSpPr>
          <p:spPr>
            <a:xfrm>
              <a:off x="59544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3388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 rot="20216400">
            <a:off x="905040" y="366408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588800">
            <a:off x="3317760" y="35496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03:19:41Z</dcterms:created>
  <dc:creator>Jeff Gilbert</dc:creator>
  <dc:description/>
  <dc:language>en-US</dc:language>
  <cp:lastModifiedBy>Sheung Li</cp:lastModifiedBy>
  <dcterms:modified xsi:type="dcterms:W3CDTF">2002-02-08T17:33:38Z</dcterms:modified>
  <cp:revision>618</cp:revision>
  <dc:subject>Wireless Internet 2001 Presentation</dc:subject>
  <dc:title>802.11a: A Real Networking Technology</dc:title>
</cp:coreProperties>
</file>