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7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b12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b12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b12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b12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b12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b12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b12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b12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b12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b12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b12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b12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b12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b12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b12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b12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b12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b12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b12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b12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c7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c7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c7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c7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c7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c7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c7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6294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20c7a"/>
                </a:solidFill>
                <a:latin typeface="Arial"/>
              </a:rPr>
              <a:t>Company Proprietary Confidential • Copyright 2001 MeshNetworks, Inc. • All Rights Reserv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b12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eb12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62616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20c7a"/>
                </a:solidFill>
                <a:latin typeface="Arial"/>
              </a:rPr>
              <a:t>Company Proprietary Confidential • Copyright 2001 MeshNetworks, Inc. •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b12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eb12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c7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7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20c7a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7a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20c7a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0c7a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20c7a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cc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0c7a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120c7a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0c7a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120c7a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0c7a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120c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www.wavespan.com/5800_main.htm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hyperlink" Target="file:///img14" TargetMode="External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38080" y="3962520"/>
            <a:ext cx="770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7a"/>
                </a:solidFill>
                <a:latin typeface="Arial"/>
              </a:rPr>
              <a:t>Broadband Wireless World Forum 2/14/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7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20c7a"/>
                </a:solidFill>
                <a:latin typeface="Arial"/>
              </a:rPr>
              <a:t>Non Line-of-Sight in the Microwave Ban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7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20c7a"/>
                </a:solidFill>
                <a:latin typeface="Arial"/>
              </a:rPr>
              <a:t>Microcell and MeshNetworks Archite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7a"/>
                </a:solidFill>
                <a:latin typeface="Arial"/>
              </a:rPr>
              <a:t>Rick Rot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7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20c7a"/>
                </a:solidFill>
                <a:latin typeface="Arial"/>
              </a:rPr>
              <a:t>Director of Disruptive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7a"/>
                </a:solidFill>
                <a:latin typeface="Arial"/>
              </a:rPr>
              <a:t>Mesh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b12f"/>
                </a:solidFill>
                <a:latin typeface="Arial"/>
              </a:rPr>
              <a:t>Mesh Network: </a:t>
            </a:r>
            <a:br>
              <a:rPr sz="3200"/>
            </a:br>
            <a:r>
              <a:rPr b="1" lang="en-US" sz="3200" spc="-1" strike="noStrike">
                <a:solidFill>
                  <a:srgbClr val="feb12f"/>
                </a:solidFill>
                <a:latin typeface="Arial"/>
              </a:rPr>
              <a:t>Self-Forming, Self-Healing</a:t>
            </a:r>
            <a:endParaRPr b="1" lang="en-US" sz="3200" spc="-1" strike="noStrike">
              <a:solidFill>
                <a:srgbClr val="feb12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8294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380880" y="1523880"/>
            <a:ext cx="8305920" cy="48704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 flipV="1">
            <a:off x="5029200" y="2590920"/>
            <a:ext cx="2133720" cy="129528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029200" y="3733560"/>
            <a:ext cx="1981080" cy="15228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52680" y="3581280"/>
            <a:ext cx="381240" cy="175284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361960" y="3581280"/>
            <a:ext cx="990360" cy="99072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162920" y="2590920"/>
            <a:ext cx="838080" cy="9144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010280" y="2590920"/>
            <a:ext cx="152640" cy="121896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38280" y="4572000"/>
            <a:ext cx="1295640" cy="6858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010280" y="3505320"/>
            <a:ext cx="99072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52680" y="3581280"/>
            <a:ext cx="175284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733920" y="3809880"/>
            <a:ext cx="1218960" cy="144792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352680" y="2514240"/>
            <a:ext cx="3886200" cy="1066680"/>
            <a:chOff x="3352680" y="2514240"/>
            <a:chExt cx="3886200" cy="1066680"/>
          </a:xfrm>
        </p:grpSpPr>
        <p:sp>
          <p:nvSpPr>
            <p:cNvPr id="318" name=""/>
            <p:cNvSpPr/>
            <p:nvPr/>
          </p:nvSpPr>
          <p:spPr>
            <a:xfrm>
              <a:off x="4952880" y="2514600"/>
              <a:ext cx="2286000" cy="7632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3733920" y="2514240"/>
              <a:ext cx="1143000" cy="15228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352680" y="2514240"/>
              <a:ext cx="1524240" cy="106668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lanar_big" descr="Planar Antenna"/>
          <p:cNvPicPr/>
          <p:nvPr/>
        </p:nvPicPr>
        <p:blipFill>
          <a:blip r:embed="rId2"/>
          <a:stretch/>
        </p:blipFill>
        <p:spPr>
          <a:xfrm>
            <a:off x="5334120" y="1447920"/>
            <a:ext cx="820440" cy="203652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b12f"/>
                </a:solidFill>
                <a:latin typeface="Arial"/>
              </a:rPr>
              <a:t>Mesh Networks CPE Implementation Alternatives</a:t>
            </a:r>
            <a:endParaRPr b="1" lang="en-US" sz="3200" spc="-1" strike="noStrike">
              <a:solidFill>
                <a:srgbClr val="feb12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 </a:t>
            </a:r>
            <a:endParaRPr b="0" lang="en-US" sz="2000" spc="-1" strike="noStrike">
              <a:solidFill>
                <a:srgbClr val="120c7a"/>
              </a:solidFill>
              <a:latin typeface="Arial"/>
            </a:endParaRPr>
          </a:p>
        </p:txBody>
      </p:sp>
      <p:pic>
        <p:nvPicPr>
          <p:cNvPr id="324" name="pic0" descr=""/>
          <p:cNvPicPr/>
          <p:nvPr/>
        </p:nvPicPr>
        <p:blipFill>
          <a:blip r:embed="rId4"/>
          <a:stretch/>
        </p:blipFill>
        <p:spPr>
          <a:xfrm>
            <a:off x="6781680" y="1676520"/>
            <a:ext cx="1490760" cy="14713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666880" y="2209680"/>
            <a:ext cx="5965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2800" y="2668680"/>
            <a:ext cx="5965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2" descr=""/>
          <p:cNvPicPr/>
          <p:nvPr/>
        </p:nvPicPr>
        <p:blipFill>
          <a:blip r:embed="rId5"/>
          <a:stretch/>
        </p:blipFill>
        <p:spPr>
          <a:xfrm>
            <a:off x="5181480" y="2743200"/>
            <a:ext cx="1824120" cy="912960"/>
          </a:xfrm>
          <a:prstGeom prst="rect">
            <a:avLst/>
          </a:prstGeom>
          <a:ln w="0">
            <a:noFill/>
          </a:ln>
        </p:spPr>
      </p:pic>
      <p:pic>
        <p:nvPicPr>
          <p:cNvPr id="328" name="R240_04" descr="Nokia RoofTop Wireless Routers"/>
          <p:cNvPicPr/>
          <p:nvPr/>
        </p:nvPicPr>
        <p:blipFill>
          <a:blip r:embed="rId6"/>
          <a:stretch/>
        </p:blipFill>
        <p:spPr>
          <a:xfrm>
            <a:off x="762120" y="1600200"/>
            <a:ext cx="995400" cy="122544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2581200" y="3108240"/>
            <a:ext cx="3983040" cy="641520"/>
            <a:chOff x="2581200" y="3108240"/>
            <a:chExt cx="3983040" cy="641520"/>
          </a:xfrm>
        </p:grpSpPr>
        <p:sp>
          <p:nvSpPr>
            <p:cNvPr id="330" name=""/>
            <p:cNvSpPr/>
            <p:nvPr/>
          </p:nvSpPr>
          <p:spPr>
            <a:xfrm>
              <a:off x="2581200" y="3108240"/>
              <a:ext cx="3983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2581200" y="3108240"/>
              <a:ext cx="3589200" cy="641520"/>
              <a:chOff x="2581200" y="3108240"/>
              <a:chExt cx="3589200" cy="641520"/>
            </a:xfrm>
          </p:grpSpPr>
          <p:sp>
            <p:nvSpPr>
              <p:cNvPr id="332" name=""/>
              <p:cNvSpPr/>
              <p:nvPr/>
            </p:nvSpPr>
            <p:spPr>
              <a:xfrm>
                <a:off x="2581200" y="3108240"/>
                <a:ext cx="35892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81200" y="3108240"/>
                <a:ext cx="3589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ccccff"/>
                    </a:solidFill>
                    <a:uFillTx/>
                    <a:latin typeface="Arial"/>
                    <a:ea typeface="Arial"/>
                    <a:hlinkClick r:id="rId7"/>
                  </a:rPr>
                  <a:t> 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1447920" y="2057400"/>
            <a:ext cx="1295280" cy="871560"/>
          </a:xfrm>
          <a:prstGeom prst="rect">
            <a:avLst/>
          </a:prstGeom>
          <a:ln w="0">
            <a:noFill/>
          </a:ln>
        </p:spPr>
      </p:pic>
      <p:pic>
        <p:nvPicPr>
          <p:cNvPr id="335" name="alton_towers_up_long_p4" descr=""/>
          <p:cNvPicPr/>
          <p:nvPr/>
        </p:nvPicPr>
        <p:blipFill>
          <a:blip r:embed="rId9"/>
          <a:stretch/>
        </p:blipFill>
        <p:spPr>
          <a:xfrm>
            <a:off x="2209680" y="3886200"/>
            <a:ext cx="966960" cy="17161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778200" y="2017800"/>
            <a:ext cx="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mesh_pc_card" descr=""/>
          <p:cNvPicPr/>
          <p:nvPr/>
        </p:nvPicPr>
        <p:blipFill>
          <a:blip r:embed="rId10"/>
          <a:stretch/>
        </p:blipFill>
        <p:spPr>
          <a:xfrm>
            <a:off x="6781680" y="4343400"/>
            <a:ext cx="126864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11760" y="2971800"/>
            <a:ext cx="328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7a"/>
                </a:solidFill>
                <a:latin typeface="Arial"/>
              </a:rPr>
              <a:t>Roof Mount Antenna, Fixed C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40" y="5638680"/>
            <a:ext cx="328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7a"/>
                </a:solidFill>
                <a:latin typeface="Arial"/>
              </a:rPr>
              <a:t>Roof Mount Antenna, Fixed C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54600" y="3581280"/>
            <a:ext cx="364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7a"/>
                </a:solidFill>
                <a:latin typeface="Arial"/>
              </a:rPr>
              <a:t>Indoor/Outdoor Antenna, Fixed C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Radnode5" descr=""/>
          <p:cNvPicPr/>
          <p:nvPr/>
        </p:nvPicPr>
        <p:blipFill>
          <a:blip r:embed="rId11"/>
          <a:stretch/>
        </p:blipFill>
        <p:spPr>
          <a:xfrm>
            <a:off x="380880" y="3581280"/>
            <a:ext cx="1333800" cy="20955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6328440" y="57913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7a"/>
                </a:solidFill>
                <a:latin typeface="Arial"/>
              </a:rPr>
              <a:t>PC card, Mobile  C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b12f"/>
                </a:solidFill>
                <a:latin typeface="Arial"/>
              </a:rPr>
              <a:t>MeshNetworks Supports Business, Residential, and Mobile Subscribers</a:t>
            </a:r>
            <a:endParaRPr b="1" lang="en-US" sz="2800" spc="-1" strike="noStrike">
              <a:solidFill>
                <a:srgbClr val="feb12f"/>
              </a:solidFill>
              <a:latin typeface="Arial"/>
            </a:endParaRPr>
          </a:p>
        </p:txBody>
      </p:sp>
      <p:pic>
        <p:nvPicPr>
          <p:cNvPr id="344" name="network_capabilities_02" descr=""/>
          <p:cNvPicPr/>
          <p:nvPr/>
        </p:nvPicPr>
        <p:blipFill>
          <a:blip r:embed="rId2"/>
          <a:stretch/>
        </p:blipFill>
        <p:spPr>
          <a:xfrm>
            <a:off x="457200" y="1549440"/>
            <a:ext cx="8305920" cy="487188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2361960" y="2590920"/>
            <a:ext cx="5639040" cy="2743200"/>
            <a:chOff x="2361960" y="2590920"/>
            <a:chExt cx="5639040" cy="2743200"/>
          </a:xfrm>
        </p:grpSpPr>
        <p:sp>
          <p:nvSpPr>
            <p:cNvPr id="346" name=""/>
            <p:cNvSpPr/>
            <p:nvPr/>
          </p:nvSpPr>
          <p:spPr>
            <a:xfrm flipV="1">
              <a:off x="5029200" y="2590920"/>
              <a:ext cx="2133720" cy="129528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5029200" y="3733560"/>
              <a:ext cx="1981080" cy="15228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52680" y="3581280"/>
              <a:ext cx="381240" cy="175284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361960" y="3581280"/>
              <a:ext cx="990360" cy="99072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2590920"/>
              <a:ext cx="838080" cy="91440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010280" y="2590920"/>
              <a:ext cx="152640" cy="121896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38280" y="4572000"/>
              <a:ext cx="1295640" cy="68580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010280" y="3505320"/>
              <a:ext cx="990720" cy="22860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52680" y="3581280"/>
              <a:ext cx="1752840" cy="22860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733920" y="3809880"/>
              <a:ext cx="1218960" cy="144792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b12f"/>
                </a:solidFill>
                <a:latin typeface="Arial"/>
              </a:rPr>
              <a:t>MeshNetworks’ Advantages</a:t>
            </a:r>
            <a:endParaRPr b="1" lang="en-US" sz="3200" spc="-1" strike="noStrike">
              <a:solidFill>
                <a:srgbClr val="feb12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120c7a"/>
                </a:solidFill>
                <a:latin typeface="Arial"/>
              </a:rPr>
              <a:t>Self-forming, Self-healing, Self-Balancing Network</a:t>
            </a: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120c7a"/>
                </a:solidFill>
                <a:latin typeface="Arial"/>
              </a:rPr>
              <a:t>Very Spectrally Efficient</a:t>
            </a: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000" spc="-1" strike="noStrike">
                <a:solidFill>
                  <a:srgbClr val="120c7a"/>
                </a:solidFill>
                <a:latin typeface="Arial"/>
              </a:rPr>
              <a:t>Leverages the Power-Distance-Throughput Law</a:t>
            </a:r>
            <a:endParaRPr b="0" lang="en-US" sz="2000" spc="-1" strike="noStrike">
              <a:solidFill>
                <a:srgbClr val="120c7a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1800" spc="-1" strike="noStrike">
                <a:solidFill>
                  <a:srgbClr val="120c7a"/>
                </a:solidFill>
                <a:latin typeface="Arial"/>
              </a:rPr>
              <a:t>Have to Increase Power or Decrease Distance</a:t>
            </a:r>
            <a:r>
              <a:rPr b="0" lang="en-US" sz="1800" spc="-1" strike="noStrike">
                <a:solidFill>
                  <a:srgbClr val="120c7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20c7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20c7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20c7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120c7a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000" spc="-1" strike="noStrike">
                <a:solidFill>
                  <a:srgbClr val="120c7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20c7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20c7a"/>
                </a:solidFill>
                <a:latin typeface="Arial"/>
              </a:rPr>
              <a:t>to Increase Throughput - It’s the Law!</a:t>
            </a:r>
            <a:endParaRPr b="0" lang="en-US" sz="1800" spc="-1" strike="noStrike">
              <a:solidFill>
                <a:srgbClr val="120c7a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-Cost Self-Installing CPE </a:t>
            </a: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bers Subsidize the Network</a:t>
            </a: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Leverage Your Fixed Broadband Spectrum into a Mobile Broadband network as Well</a:t>
            </a: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oS Management for Voice, Video and Data</a:t>
            </a: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3D Geo-location for Location Aware Applications</a:t>
            </a: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800" spc="-1" strike="noStrike">
              <a:solidFill>
                <a:srgbClr val="120c7a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18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086600" y="2743200"/>
            <a:ext cx="1143000" cy="9144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31920" y="358128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7a"/>
                </a:solidFill>
                <a:latin typeface="Arial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51240" y="35812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7a"/>
                </a:solidFill>
                <a:latin typeface="Arial"/>
              </a:rPr>
              <a:t>Di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37920" y="2438280"/>
            <a:ext cx="13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7a"/>
                </a:solidFill>
                <a:latin typeface="Arial"/>
              </a:rPr>
              <a:t>Through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b12f"/>
                </a:solidFill>
                <a:latin typeface="Arial"/>
              </a:rPr>
              <a:t>Issues Facing the Broadband Business Case</a:t>
            </a:r>
            <a:endParaRPr b="1" lang="en-US" sz="3200" spc="-1" strike="noStrike">
              <a:solidFill>
                <a:srgbClr val="feb12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c7a"/>
                </a:solidFill>
                <a:latin typeface="Arial"/>
              </a:rPr>
              <a:t>Line-of-Sight Requirement Limits Addressable Market and Increases Deployment Costs</a:t>
            </a: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c7a"/>
                </a:solidFill>
                <a:latin typeface="Arial"/>
              </a:rPr>
              <a:t>Expensive CPE Increases Upfront Capital Costs, and Keeps Low Volume Users Out the Market</a:t>
            </a: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c7a"/>
                </a:solidFill>
                <a:latin typeface="Arial"/>
              </a:rPr>
              <a:t>Complex CPE Installations Require Skilled Techs and Costly Truck-rolls</a:t>
            </a: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c7a"/>
                </a:solidFill>
                <a:latin typeface="Arial"/>
              </a:rPr>
              <a:t>Typically Does Not Offer Subscribers Even Simple Portability</a:t>
            </a: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0c7a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9480" y="5257800"/>
            <a:ext cx="80370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h Networking Addresses and Solves These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829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86000" y="2286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b12f"/>
                </a:solidFill>
                <a:latin typeface="Arial"/>
              </a:rPr>
              <a:t>Point to 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361960" y="2590560"/>
            <a:ext cx="5639040" cy="2743560"/>
            <a:chOff x="2361960" y="2590560"/>
            <a:chExt cx="5639040" cy="2743560"/>
          </a:xfrm>
        </p:grpSpPr>
        <p:sp>
          <p:nvSpPr>
            <p:cNvPr id="85" name=""/>
            <p:cNvSpPr/>
            <p:nvPr/>
          </p:nvSpPr>
          <p:spPr>
            <a:xfrm flipV="1">
              <a:off x="3352680" y="2590560"/>
              <a:ext cx="3810240" cy="99036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3352680" y="3428640"/>
              <a:ext cx="4267440" cy="15228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352680" y="3504960"/>
              <a:ext cx="4648320" cy="7596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52680" y="3581280"/>
              <a:ext cx="3657600" cy="22860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52680" y="3581280"/>
              <a:ext cx="381240" cy="175284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361960" y="3581280"/>
              <a:ext cx="990360" cy="99072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52680" y="3581280"/>
              <a:ext cx="1752840" cy="30492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829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86000" y="2286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b12f"/>
                </a:solidFill>
                <a:latin typeface="Arial"/>
              </a:rPr>
              <a:t>Mesh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029200" y="2590920"/>
            <a:ext cx="2133720" cy="129528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29200" y="3733560"/>
            <a:ext cx="1981080" cy="15228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3581280"/>
            <a:ext cx="381240" cy="175284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361960" y="3581280"/>
            <a:ext cx="990360" cy="99072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2590920"/>
            <a:ext cx="838080" cy="9144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010280" y="2590920"/>
            <a:ext cx="152640" cy="121896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4572000"/>
            <a:ext cx="1295640" cy="6858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010280" y="3505320"/>
            <a:ext cx="99072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3581280"/>
            <a:ext cx="175284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733920" y="3809880"/>
            <a:ext cx="1218960" cy="144792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829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6000" y="2286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b12f"/>
                </a:solidFill>
                <a:latin typeface="Arial"/>
              </a:rPr>
              <a:t>Point to Multipoint:</a:t>
            </a:r>
            <a:br>
              <a:rPr sz="3200"/>
            </a:br>
            <a:r>
              <a:rPr b="1" lang="en-US" sz="3200" spc="-1" strike="noStrike">
                <a:solidFill>
                  <a:srgbClr val="feb12f"/>
                </a:solidFill>
                <a:latin typeface="Arial"/>
              </a:rPr>
              <a:t>Spectrally Ineffici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895400" y="-1810800"/>
            <a:ext cx="11569320" cy="11569320"/>
            <a:chOff x="-1895400" y="-1810800"/>
            <a:chExt cx="11569320" cy="11569320"/>
          </a:xfrm>
        </p:grpSpPr>
        <p:sp>
          <p:nvSpPr>
            <p:cNvPr id="107" name=""/>
            <p:cNvSpPr/>
            <p:nvPr/>
          </p:nvSpPr>
          <p:spPr>
            <a:xfrm flipV="1">
              <a:off x="3352680" y="2590560"/>
              <a:ext cx="3810240" cy="99036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3352680" y="3428640"/>
              <a:ext cx="4267440" cy="15228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3352680" y="3504960"/>
              <a:ext cx="4648320" cy="7596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52680" y="3581280"/>
              <a:ext cx="3657600" cy="22860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52680" y="3581280"/>
              <a:ext cx="381240" cy="175284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361960" y="3581280"/>
              <a:ext cx="990360" cy="99072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52680" y="3581280"/>
              <a:ext cx="1752840" cy="30492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-1895400" y="-1810800"/>
              <a:ext cx="11569320" cy="11569320"/>
              <a:chOff x="-1895400" y="-1810800"/>
              <a:chExt cx="11569320" cy="11569320"/>
            </a:xfrm>
          </p:grpSpPr>
          <p:sp>
            <p:nvSpPr>
              <p:cNvPr id="115" name=""/>
              <p:cNvSpPr/>
              <p:nvPr/>
            </p:nvSpPr>
            <p:spPr>
              <a:xfrm rot="2325600">
                <a:off x="-225360" y="-140400"/>
                <a:ext cx="8229960" cy="822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497" y="342"/>
                    </a:moveTo>
                    <a:arcTo wR="10800" hR="10800" stAng="-4532386" swAng="42743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497" y="342"/>
                    </a:moveTo>
                    <a:arcTo wR="10800" hR="10800" stAng="-4532386" swAng="4274371"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352680" y="1599840"/>
                <a:ext cx="373392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3429000" y="2133360"/>
                <a:ext cx="4038480" cy="152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3429000" y="2590560"/>
                <a:ext cx="419112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3352680" y="3124080"/>
                <a:ext cx="449604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2680" y="3657600"/>
                <a:ext cx="45720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52680" y="3657600"/>
                <a:ext cx="457200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76720" y="3657600"/>
                <a:ext cx="457200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352680" y="3657600"/>
                <a:ext cx="434340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76720" y="3657600"/>
                <a:ext cx="426708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76720" y="3657600"/>
                <a:ext cx="3962160" cy="25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3352680" y="3733920"/>
              <a:ext cx="335304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52680" y="3733920"/>
              <a:ext cx="228600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52680" y="3733920"/>
              <a:ext cx="144792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52680" y="3733920"/>
              <a:ext cx="76212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52680" y="3733920"/>
              <a:ext cx="7632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895480" y="3657600"/>
              <a:ext cx="45720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285640" y="3733920"/>
              <a:ext cx="106668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600200" y="3733920"/>
              <a:ext cx="175248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914400" y="3733920"/>
              <a:ext cx="236232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57200" y="3733920"/>
              <a:ext cx="281952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57200" y="3733920"/>
              <a:ext cx="28195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33520" y="3733920"/>
              <a:ext cx="2743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57200" y="3733920"/>
              <a:ext cx="28195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457200" y="3504960"/>
              <a:ext cx="2819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57200" y="2971440"/>
              <a:ext cx="2819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457200" y="2286000"/>
              <a:ext cx="281952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914400" y="1599840"/>
              <a:ext cx="236232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828800" y="1523520"/>
              <a:ext cx="144792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2590560" y="1523520"/>
              <a:ext cx="6858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276720" y="159984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276720" y="1599840"/>
              <a:ext cx="60948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276720" y="15235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276720" y="1523520"/>
              <a:ext cx="236196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 flipV="1">
            <a:off x="3352680" y="2590560"/>
            <a:ext cx="3810240" cy="99036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352680" y="3428640"/>
            <a:ext cx="4267440" cy="15228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352680" y="3504960"/>
            <a:ext cx="4648320" cy="7596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3581280"/>
            <a:ext cx="365760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3581280"/>
            <a:ext cx="381240" cy="175284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361960" y="3581280"/>
            <a:ext cx="990360" cy="99072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52680" y="3581280"/>
            <a:ext cx="1752840" cy="30492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8229600" cy="4829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0" y="2286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b12f"/>
                </a:solidFill>
                <a:latin typeface="Arial"/>
              </a:rPr>
              <a:t>Mesh Network Advantages;</a:t>
            </a:r>
            <a:br>
              <a:rPr sz="3200"/>
            </a:br>
            <a:r>
              <a:rPr b="1" lang="en-US" sz="3200" spc="-1" strike="noStrike">
                <a:solidFill>
                  <a:srgbClr val="feb12f"/>
                </a:solidFill>
                <a:latin typeface="Arial"/>
              </a:rPr>
              <a:t>High Spectral 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029200" y="2590920"/>
            <a:ext cx="2133720" cy="129528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029200" y="3733560"/>
            <a:ext cx="1981080" cy="15228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3581280"/>
            <a:ext cx="381240" cy="175284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361960" y="3581280"/>
            <a:ext cx="990360" cy="99072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2590920"/>
            <a:ext cx="838080" cy="9144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010280" y="2590920"/>
            <a:ext cx="152640" cy="121896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4572000"/>
            <a:ext cx="1295640" cy="6858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010280" y="3505320"/>
            <a:ext cx="99072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3581280"/>
            <a:ext cx="175284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733920" y="3809880"/>
            <a:ext cx="1218960" cy="144792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70600" y="1320480"/>
            <a:ext cx="5412240" cy="5523840"/>
            <a:chOff x="570600" y="1320480"/>
            <a:chExt cx="5412240" cy="5523840"/>
          </a:xfrm>
        </p:grpSpPr>
        <p:sp>
          <p:nvSpPr>
            <p:cNvPr id="169" name=""/>
            <p:cNvSpPr/>
            <p:nvPr/>
          </p:nvSpPr>
          <p:spPr>
            <a:xfrm rot="2325600">
              <a:off x="1512720" y="1956240"/>
              <a:ext cx="3527280" cy="425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497" y="342"/>
                  </a:moveTo>
                  <a:arcTo wR="10800" hR="10800" stAng="-4532386" swAng="42743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497" y="342"/>
                  </a:moveTo>
                  <a:arcTo wR="10800" hR="10800" stAng="-4532386" swAng="4274371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156480" y="2742840"/>
              <a:ext cx="1600200" cy="10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189240" y="3018240"/>
              <a:ext cx="173088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189240" y="3254760"/>
              <a:ext cx="1796400" cy="5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3156480" y="3530160"/>
              <a:ext cx="1927080" cy="3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56480" y="3806280"/>
              <a:ext cx="195948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56480" y="3806280"/>
              <a:ext cx="1959480" cy="31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24080" y="3806280"/>
              <a:ext cx="195948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56480" y="3806280"/>
              <a:ext cx="1861560" cy="82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24080" y="3806280"/>
              <a:ext cx="1828800" cy="10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4080" y="3806280"/>
              <a:ext cx="1698120" cy="129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865160" y="342360"/>
            <a:ext cx="7376040" cy="7328160"/>
            <a:chOff x="1865160" y="342360"/>
            <a:chExt cx="7376040" cy="7328160"/>
          </a:xfrm>
        </p:grpSpPr>
        <p:sp>
          <p:nvSpPr>
            <p:cNvPr id="181" name=""/>
            <p:cNvSpPr/>
            <p:nvPr/>
          </p:nvSpPr>
          <p:spPr>
            <a:xfrm rot="2325600">
              <a:off x="2860200" y="1469160"/>
              <a:ext cx="5385240" cy="50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497" y="342"/>
                  </a:moveTo>
                  <a:arcTo wR="10800" hR="10800" stAng="-4532386" swAng="42743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497" y="342"/>
                  </a:moveTo>
                  <a:arcTo wR="10800" hR="10800" stAng="-4532386" swAng="4274371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5155200" y="2590560"/>
              <a:ext cx="2443320" cy="122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204880" y="2919600"/>
              <a:ext cx="2642760" cy="9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204880" y="3201480"/>
              <a:ext cx="2742480" cy="65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155200" y="3530520"/>
              <a:ext cx="2942280" cy="37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55200" y="3859560"/>
              <a:ext cx="2991960" cy="4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55200" y="3859560"/>
              <a:ext cx="299196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05520" y="3859560"/>
              <a:ext cx="2991960" cy="70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55200" y="3859560"/>
              <a:ext cx="2842200" cy="98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05520" y="3859560"/>
              <a:ext cx="2792160" cy="122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05520" y="3859560"/>
              <a:ext cx="2592720" cy="155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86000" y="2286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b12f"/>
                </a:solidFill>
                <a:latin typeface="Arial"/>
              </a:rPr>
              <a:t>Point to Multipoint:</a:t>
            </a:r>
            <a:br>
              <a:rPr sz="3200"/>
            </a:br>
            <a:r>
              <a:rPr b="1" lang="en-US" sz="3200" spc="-1" strike="noStrike">
                <a:solidFill>
                  <a:srgbClr val="feb12f"/>
                </a:solidFill>
                <a:latin typeface="Arial"/>
              </a:rPr>
              <a:t>Line-of-S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57200" y="1523880"/>
            <a:ext cx="8229600" cy="4829400"/>
            <a:chOff x="457200" y="1523880"/>
            <a:chExt cx="8229600" cy="482940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457200" y="1523880"/>
              <a:ext cx="8229600" cy="482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flipV="1">
              <a:off x="3352680" y="2590560"/>
              <a:ext cx="3810240" cy="99036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3352680" y="3428640"/>
              <a:ext cx="4267440" cy="15228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352680" y="3504960"/>
              <a:ext cx="4648320" cy="7596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352680" y="3581280"/>
              <a:ext cx="3657600" cy="22860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52680" y="3581280"/>
              <a:ext cx="381240" cy="175284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361960" y="3581280"/>
              <a:ext cx="990360" cy="99072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52680" y="3581280"/>
              <a:ext cx="1752840" cy="30492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1523880"/>
            <a:ext cx="8305920" cy="4872240"/>
            <a:chOff x="380880" y="1523880"/>
            <a:chExt cx="8305920" cy="4872240"/>
          </a:xfrm>
        </p:grpSpPr>
        <p:pic>
          <p:nvPicPr>
            <p:cNvPr id="203" name="" descr=""/>
            <p:cNvPicPr/>
            <p:nvPr/>
          </p:nvPicPr>
          <p:blipFill>
            <a:blip r:embed="rId3"/>
            <a:stretch/>
          </p:blipFill>
          <p:spPr>
            <a:xfrm>
              <a:off x="380880" y="1523880"/>
              <a:ext cx="8305920" cy="487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 flipV="1">
              <a:off x="3276360" y="2590560"/>
              <a:ext cx="3810240" cy="99036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76360" y="3581280"/>
              <a:ext cx="3657600" cy="22860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10080" y="3276720"/>
              <a:ext cx="533520" cy="457200"/>
            </a:xfrm>
            <a:prstGeom prst="irregularSeal2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76360" y="3581280"/>
              <a:ext cx="381240" cy="175284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2285640" y="3581280"/>
              <a:ext cx="990360" cy="99072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76360" y="3581280"/>
              <a:ext cx="1752840" cy="30492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276360" y="3504960"/>
              <a:ext cx="2210040" cy="7596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76360" y="3581280"/>
              <a:ext cx="2286000" cy="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0" y="2286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b12f"/>
                </a:solidFill>
                <a:latin typeface="Arial"/>
              </a:rPr>
              <a:t>Mesh Networks  Self-Forming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0880" y="1447920"/>
            <a:ext cx="8229600" cy="4829040"/>
            <a:chOff x="380880" y="1447920"/>
            <a:chExt cx="8229600" cy="4829040"/>
          </a:xfrm>
        </p:grpSpPr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380880" y="1447920"/>
              <a:ext cx="8229600" cy="48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 flipV="1">
              <a:off x="4952880" y="2514240"/>
              <a:ext cx="2133720" cy="129492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952880" y="3657600"/>
              <a:ext cx="1981440" cy="15192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6720" y="3504960"/>
              <a:ext cx="380880" cy="175248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2286000" y="3504960"/>
              <a:ext cx="990720" cy="99036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86600" y="2514600"/>
              <a:ext cx="838080" cy="91404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6933960" y="2514600"/>
              <a:ext cx="152280" cy="121860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62320" y="4495680"/>
              <a:ext cx="1295280" cy="68544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933960" y="3429000"/>
              <a:ext cx="990360" cy="22824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76720" y="3504960"/>
              <a:ext cx="1752480" cy="22824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657600" y="3733200"/>
              <a:ext cx="1219320" cy="144756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80880" y="1447920"/>
            <a:ext cx="8305920" cy="4871880"/>
            <a:chOff x="380880" y="1447920"/>
            <a:chExt cx="8305920" cy="4871880"/>
          </a:xfrm>
        </p:grpSpPr>
        <p:pic>
          <p:nvPicPr>
            <p:cNvPr id="226" name="" descr=""/>
            <p:cNvPicPr/>
            <p:nvPr/>
          </p:nvPicPr>
          <p:blipFill>
            <a:blip r:embed="rId3"/>
            <a:stretch/>
          </p:blipFill>
          <p:spPr>
            <a:xfrm>
              <a:off x="380880" y="1447920"/>
              <a:ext cx="8305920" cy="48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3276720" y="3581280"/>
              <a:ext cx="380880" cy="175212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286000" y="3581280"/>
              <a:ext cx="990720" cy="99036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86600" y="2590560"/>
              <a:ext cx="838080" cy="91404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933960" y="2590560"/>
              <a:ext cx="152280" cy="121896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62320" y="4572000"/>
              <a:ext cx="1295280" cy="68544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933960" y="3504960"/>
              <a:ext cx="990360" cy="22824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76720" y="3581280"/>
              <a:ext cx="1752480" cy="22824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657600" y="3809520"/>
              <a:ext cx="1219320" cy="144756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029200" y="3504960"/>
              <a:ext cx="609480" cy="30456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943600" y="2590200"/>
              <a:ext cx="1143000" cy="60948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00600" y="3809880"/>
              <a:ext cx="838080" cy="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86400" y="3657600"/>
              <a:ext cx="228600" cy="304200"/>
            </a:xfrm>
            <a:prstGeom prst="irregularSeal1">
              <a:avLst/>
            </a:prstGeom>
            <a:solidFill>
              <a:srgbClr val="ff33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733920" y="3733560"/>
            <a:ext cx="3907440" cy="1523880"/>
            <a:chOff x="3733920" y="3733560"/>
            <a:chExt cx="3907440" cy="1523880"/>
          </a:xfrm>
        </p:grpSpPr>
        <p:sp>
          <p:nvSpPr>
            <p:cNvPr id="240" name=""/>
            <p:cNvSpPr/>
            <p:nvPr/>
          </p:nvSpPr>
          <p:spPr>
            <a:xfrm flipV="1">
              <a:off x="3733920" y="3733560"/>
              <a:ext cx="3200040" cy="152388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52160" y="4724280"/>
              <a:ext cx="2689200" cy="459720"/>
            </a:xfrm>
            <a:prstGeom prst="rect">
              <a:avLst/>
            </a:prstGeom>
            <a:solidFill>
              <a:srgbClr val="120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lf-forming 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232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b12f"/>
                </a:solidFill>
                <a:latin typeface="Arial"/>
              </a:rPr>
              <a:t>Point to Multipoint - Engineering and Re-Engineering</a:t>
            </a:r>
            <a:endParaRPr b="1" lang="en-US" sz="3200" spc="-1" strike="noStrike">
              <a:solidFill>
                <a:srgbClr val="feb12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57200" y="1523880"/>
            <a:ext cx="8229600" cy="4829400"/>
            <a:chOff x="457200" y="1523880"/>
            <a:chExt cx="8229600" cy="482940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457200" y="1523880"/>
              <a:ext cx="8229600" cy="482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5" name=""/>
            <p:cNvGrpSpPr/>
            <p:nvPr/>
          </p:nvGrpSpPr>
          <p:grpSpPr>
            <a:xfrm>
              <a:off x="2361960" y="2590560"/>
              <a:ext cx="5639040" cy="2743560"/>
              <a:chOff x="2361960" y="2590560"/>
              <a:chExt cx="5639040" cy="274356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2361960" y="2590560"/>
                <a:ext cx="5639040" cy="2743560"/>
                <a:chOff x="2361960" y="2590560"/>
                <a:chExt cx="5639040" cy="2743560"/>
              </a:xfrm>
            </p:grpSpPr>
            <p:sp>
              <p:nvSpPr>
                <p:cNvPr id="247" name=""/>
                <p:cNvSpPr/>
                <p:nvPr/>
              </p:nvSpPr>
              <p:spPr>
                <a:xfrm flipV="1">
                  <a:off x="3352680" y="2590560"/>
                  <a:ext cx="3810240" cy="990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3352680" y="3428640"/>
                  <a:ext cx="4267440" cy="1522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V="1">
                  <a:off x="3352680" y="3504960"/>
                  <a:ext cx="4648320" cy="759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352680" y="3581280"/>
                  <a:ext cx="3657600" cy="228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352680" y="3581280"/>
                  <a:ext cx="381240" cy="17528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>
                  <a:off x="2361960" y="3581280"/>
                  <a:ext cx="990360" cy="990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352680" y="3581280"/>
                  <a:ext cx="1752840" cy="3049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>
                <a:off x="3352680" y="3581280"/>
                <a:ext cx="3657600" cy="228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361960" y="2590560"/>
                <a:ext cx="5639040" cy="2743560"/>
                <a:chOff x="2361960" y="2590560"/>
                <a:chExt cx="5639040" cy="2743560"/>
              </a:xfrm>
            </p:grpSpPr>
            <p:sp>
              <p:nvSpPr>
                <p:cNvPr id="256" name=""/>
                <p:cNvSpPr/>
                <p:nvPr/>
              </p:nvSpPr>
              <p:spPr>
                <a:xfrm flipV="1">
                  <a:off x="3352680" y="2590560"/>
                  <a:ext cx="3810240" cy="990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V="1">
                  <a:off x="3352680" y="3428640"/>
                  <a:ext cx="4267440" cy="1522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V="1">
                  <a:off x="3352680" y="3504960"/>
                  <a:ext cx="4648320" cy="759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352680" y="3581280"/>
                  <a:ext cx="381240" cy="17528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>
                  <a:off x="2361960" y="3581280"/>
                  <a:ext cx="990360" cy="990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352680" y="3581280"/>
                  <a:ext cx="1752840" cy="3049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2" name=""/>
          <p:cNvGrpSpPr/>
          <p:nvPr/>
        </p:nvGrpSpPr>
        <p:grpSpPr>
          <a:xfrm>
            <a:off x="380880" y="1523880"/>
            <a:ext cx="8305920" cy="4870440"/>
            <a:chOff x="380880" y="1523880"/>
            <a:chExt cx="8305920" cy="4870440"/>
          </a:xfrm>
        </p:grpSpPr>
        <p:pic>
          <p:nvPicPr>
            <p:cNvPr id="263" name="" descr=""/>
            <p:cNvPicPr/>
            <p:nvPr/>
          </p:nvPicPr>
          <p:blipFill>
            <a:blip r:embed="rId3"/>
            <a:stretch/>
          </p:blipFill>
          <p:spPr>
            <a:xfrm>
              <a:off x="380880" y="1523880"/>
              <a:ext cx="8305920" cy="487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4" name=""/>
            <p:cNvGrpSpPr/>
            <p:nvPr/>
          </p:nvGrpSpPr>
          <p:grpSpPr>
            <a:xfrm>
              <a:off x="2361960" y="2590560"/>
              <a:ext cx="5639040" cy="2743560"/>
              <a:chOff x="2361960" y="2590560"/>
              <a:chExt cx="5639040" cy="2743560"/>
            </a:xfrm>
          </p:grpSpPr>
          <p:sp>
            <p:nvSpPr>
              <p:cNvPr id="265" name=""/>
              <p:cNvSpPr/>
              <p:nvPr/>
            </p:nvSpPr>
            <p:spPr>
              <a:xfrm flipV="1">
                <a:off x="3352680" y="2590560"/>
                <a:ext cx="3810240" cy="99036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3352680" y="3428640"/>
                <a:ext cx="4267440" cy="15228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3352680" y="3504960"/>
                <a:ext cx="4648320" cy="75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52680" y="3581280"/>
                <a:ext cx="3657600" cy="228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352680" y="3581280"/>
                <a:ext cx="381240" cy="175284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2361960" y="3581280"/>
                <a:ext cx="990360" cy="99072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352680" y="3581280"/>
                <a:ext cx="1752840" cy="304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2" name=""/>
          <p:cNvGrpSpPr/>
          <p:nvPr/>
        </p:nvGrpSpPr>
        <p:grpSpPr>
          <a:xfrm>
            <a:off x="380880" y="1523880"/>
            <a:ext cx="8305920" cy="4870440"/>
            <a:chOff x="380880" y="1523880"/>
            <a:chExt cx="8305920" cy="4870440"/>
          </a:xfrm>
        </p:grpSpPr>
        <p:grpSp>
          <p:nvGrpSpPr>
            <p:cNvPr id="273" name=""/>
            <p:cNvGrpSpPr/>
            <p:nvPr/>
          </p:nvGrpSpPr>
          <p:grpSpPr>
            <a:xfrm>
              <a:off x="457200" y="1523880"/>
              <a:ext cx="8229600" cy="4829400"/>
              <a:chOff x="457200" y="1523880"/>
              <a:chExt cx="8229600" cy="4829400"/>
            </a:xfrm>
          </p:grpSpPr>
          <p:pic>
            <p:nvPicPr>
              <p:cNvPr id="27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57200" y="1523880"/>
                <a:ext cx="8229600" cy="482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 flipV="1">
                <a:off x="3352680" y="2590560"/>
                <a:ext cx="3810240" cy="99036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3352680" y="3428640"/>
                <a:ext cx="4267440" cy="15228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3352680" y="3504960"/>
                <a:ext cx="4648320" cy="75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52680" y="3581280"/>
                <a:ext cx="3657600" cy="228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352680" y="3581280"/>
                <a:ext cx="381240" cy="175284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2361960" y="3581280"/>
                <a:ext cx="990360" cy="99072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52680" y="3581280"/>
                <a:ext cx="1752840" cy="304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380880" y="1523880"/>
              <a:ext cx="8305920" cy="4870440"/>
              <a:chOff x="380880" y="1523880"/>
              <a:chExt cx="8305920" cy="4870440"/>
            </a:xfrm>
          </p:grpSpPr>
          <p:sp>
            <p:nvSpPr>
              <p:cNvPr id="283" name=""/>
              <p:cNvSpPr/>
              <p:nvPr/>
            </p:nvSpPr>
            <p:spPr>
              <a:xfrm flipV="1">
                <a:off x="3276360" y="2590560"/>
                <a:ext cx="3810240" cy="99036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3276360" y="3428640"/>
                <a:ext cx="4267440" cy="15228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3276360" y="3504960"/>
                <a:ext cx="4648320" cy="75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276360" y="3581280"/>
                <a:ext cx="3657600" cy="228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276360" y="3581280"/>
                <a:ext cx="381240" cy="175284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2285640" y="3581280"/>
                <a:ext cx="990360" cy="99072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276360" y="3581280"/>
                <a:ext cx="1752840" cy="304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80880" y="1523880"/>
                <a:ext cx="8305920" cy="487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 flipV="1">
                <a:off x="3276360" y="3428640"/>
                <a:ext cx="4267440" cy="15228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3276360" y="3504960"/>
                <a:ext cx="4648320" cy="7596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3581280"/>
                <a:ext cx="3657600" cy="228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76360" y="3581280"/>
                <a:ext cx="381240" cy="175284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2285640" y="3581280"/>
                <a:ext cx="990360" cy="99072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76360" y="3581280"/>
                <a:ext cx="1752840" cy="304920"/>
              </a:xfrm>
              <a:prstGeom prst="line">
                <a:avLst/>
              </a:prstGeom>
              <a:ln w="381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97" name="" descr=""/>
            <p:cNvPicPr/>
            <p:nvPr/>
          </p:nvPicPr>
          <p:blipFill>
            <a:blip r:embed="rId6"/>
            <a:stretch/>
          </p:blipFill>
          <p:spPr>
            <a:xfrm>
              <a:off x="380880" y="1523880"/>
              <a:ext cx="8305920" cy="48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3352680" y="3581280"/>
              <a:ext cx="381240" cy="175284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361960" y="3581280"/>
              <a:ext cx="990360" cy="99072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352680" y="3581280"/>
              <a:ext cx="1752840" cy="30492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38880" y="2514600"/>
              <a:ext cx="304920" cy="99072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8880" y="2438280"/>
              <a:ext cx="685800" cy="106704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6934320" y="2438280"/>
              <a:ext cx="304560" cy="144792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6T13:32:57Z</dcterms:created>
  <dc:creator>Pam Benke</dc:creator>
  <dc:description/>
  <dc:language>en-US</dc:language>
  <cp:lastModifiedBy>Rick Rotondo</cp:lastModifiedBy>
  <cp:lastPrinted>2001-05-24T23:55:15Z</cp:lastPrinted>
  <dcterms:modified xsi:type="dcterms:W3CDTF">2002-02-07T18:49:18Z</dcterms:modified>
  <cp:revision>402</cp:revision>
  <dc:subject/>
  <dc:title>PowerPoint Presentation</dc:title>
</cp:coreProperties>
</file>