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AEB4-7190-41EB-A49F-F1C67A276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target market for LMDS is Small to Medium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Greater Green Bay Nearly 6000 company’s in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04B65-64C1-4F37-8D25-83213F651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9895A-59F5-4290-BE23-59429F8CD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772DD-BA89-4ABE-8A84-1161C3F1B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F9007-A3E0-45C9-B79D-1AF4F75A0D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6B7BF-99A0-4C0D-A20B-C91E7ACE18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E5E55-BF25-4B2B-AABE-83E85D948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8E0BB-36D7-4012-B15A-75B3BBD51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8B90D-929B-4955-8082-02D583D2A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24026-AEAC-4E9E-B24D-CBBC3AE20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B90F8-C35C-4EC1-9CB2-B3566009D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E08A0-67A8-4447-8335-275D04391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05AAD-5BE1-428F-9042-ACFF9EE16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6A38-F9A0-402E-A328-59474E1B2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header-logo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1581120" cy="733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nr_bwwf02%20copy" descr=""/>
          <p:cNvPicPr/>
          <p:nvPr/>
        </p:nvPicPr>
        <p:blipFill>
          <a:blip r:embed="rId1"/>
          <a:stretch/>
        </p:blipFill>
        <p:spPr>
          <a:xfrm>
            <a:off x="0" y="-14400"/>
            <a:ext cx="92962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9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1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12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14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16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1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2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2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2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057400" y="2285280"/>
            <a:ext cx="5475600" cy="3658320"/>
            <a:chOff x="2057400" y="2285280"/>
            <a:chExt cx="5475600" cy="3658320"/>
          </a:xfrm>
        </p:grpSpPr>
        <p:cxnSp>
          <p:nvCxnSpPr>
            <p:cNvPr id="264" name=""/>
            <p:cNvCxnSpPr/>
            <p:nvPr/>
          </p:nvCxnSpPr>
          <p:spPr>
            <a:xfrm flipV="1">
              <a:off x="6400800" y="5486040"/>
              <a:ext cx="11325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5" name=""/>
            <p:cNvCxnSpPr/>
            <p:nvPr/>
          </p:nvCxnSpPr>
          <p:spPr>
            <a:xfrm flipV="1">
              <a:off x="2057400" y="228528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6" name=""/>
            <p:cNvCxnSpPr/>
            <p:nvPr/>
          </p:nvCxnSpPr>
          <p:spPr>
            <a:xfrm flipV="1">
              <a:off x="2133720" y="37332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" name=""/>
            <p:cNvCxnSpPr/>
            <p:nvPr/>
          </p:nvCxnSpPr>
          <p:spPr>
            <a:xfrm flipV="1">
              <a:off x="4114800" y="32760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 flipV="1">
              <a:off x="4419720" y="4495320"/>
              <a:ext cx="1132560" cy="231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 flipV="1">
              <a:off x="3593880" y="5333760"/>
              <a:ext cx="1130760" cy="5292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0" name=""/>
            <p:cNvCxnSpPr/>
            <p:nvPr/>
          </p:nvCxnSpPr>
          <p:spPr>
            <a:xfrm>
              <a:off x="2514240" y="4724280"/>
              <a:ext cx="1080360" cy="137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27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29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30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32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34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8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9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1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2" name=""/>
          <p:cNvCxnSpPr>
            <a:stCxn id="320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Not Serve Them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3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3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4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4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4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3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4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5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6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7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8" name=""/>
          <p:cNvCxnSpPr>
            <a:stCxn id="426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9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ditional LMDS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Point    P2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Multi-Point     P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996840" y="2085840"/>
            <a:ext cx="2508120" cy="2195640"/>
            <a:chOff x="996840" y="2085840"/>
            <a:chExt cx="2508120" cy="2195640"/>
          </a:xfrm>
        </p:grpSpPr>
        <p:sp>
          <p:nvSpPr>
            <p:cNvPr id="487" name=""/>
            <p:cNvSpPr/>
            <p:nvPr/>
          </p:nvSpPr>
          <p:spPr>
            <a:xfrm>
              <a:off x="1257480" y="2287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36640" y="2172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13040" y="2852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1040" y="2085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95960" y="2651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33960" y="214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50120" y="3207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9120" y="3418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05880" y="3677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41600" y="3773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96840" y="4195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58880" y="4108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36120" y="2958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65520" y="4098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77400" y="3504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09160" y="3101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962520" y="2604960"/>
            <a:ext cx="2507760" cy="2195640"/>
            <a:chOff x="3962520" y="2604960"/>
            <a:chExt cx="2507760" cy="2195640"/>
          </a:xfrm>
        </p:grpSpPr>
        <p:sp>
          <p:nvSpPr>
            <p:cNvPr id="506" name=""/>
            <p:cNvSpPr/>
            <p:nvPr/>
          </p:nvSpPr>
          <p:spPr>
            <a:xfrm>
              <a:off x="4223160" y="2806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02320" y="26913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78360" y="337176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36360" y="2604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61640" y="3170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99280" y="2661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15440" y="372636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84800" y="3937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71560" y="4196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06920" y="42922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62520" y="47142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24560" y="462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01440" y="3477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30840" y="46180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42720" y="40240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74840" y="36208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752480" y="4357800"/>
            <a:ext cx="2508120" cy="2195280"/>
            <a:chOff x="1752480" y="4357800"/>
            <a:chExt cx="2508120" cy="2195280"/>
          </a:xfrm>
        </p:grpSpPr>
        <p:sp>
          <p:nvSpPr>
            <p:cNvPr id="523" name=""/>
            <p:cNvSpPr/>
            <p:nvPr/>
          </p:nvSpPr>
          <p:spPr>
            <a:xfrm>
              <a:off x="2013120" y="45590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92280" y="4444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68680" y="51246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26680" y="435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51600" y="4923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89600" y="4414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05760" y="54792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74760" y="5690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61520" y="5948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97240" y="6044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52480" y="64666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4520" y="6380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91760" y="5230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21160" y="63705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33040" y="57765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64800" y="5373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05520" y="4129200"/>
            <a:ext cx="2507760" cy="2195280"/>
            <a:chOff x="5105520" y="4129200"/>
            <a:chExt cx="2507760" cy="2195280"/>
          </a:xfrm>
        </p:grpSpPr>
        <p:sp>
          <p:nvSpPr>
            <p:cNvPr id="540" name=""/>
            <p:cNvSpPr/>
            <p:nvPr/>
          </p:nvSpPr>
          <p:spPr>
            <a:xfrm>
              <a:off x="5366160" y="43304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45320" y="42156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21360" y="48960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79360" y="4129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4640" y="4694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42280" y="418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58440" y="52506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27800" y="5461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14560" y="572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9920" y="5816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05520" y="6238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67560" y="6151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44440" y="5001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73840" y="6141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85720" y="5547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17840" y="51451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176480" y="2082960"/>
            <a:ext cx="6824160" cy="4394160"/>
            <a:chOff x="1176480" y="2082960"/>
            <a:chExt cx="6824160" cy="4394160"/>
          </a:xfrm>
        </p:grpSpPr>
        <p:sp>
          <p:nvSpPr>
            <p:cNvPr id="557" name=""/>
            <p:cNvSpPr/>
            <p:nvPr/>
          </p:nvSpPr>
          <p:spPr>
            <a:xfrm>
              <a:off x="1885680" y="24861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9240" y="225612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68760" y="361800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35600" y="20829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27440" y="32148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86080" y="219744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18280" y="432756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25600" y="4749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10120" y="5267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27840" y="545976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76480" y="63039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77920" y="61311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40560" y="38293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87880" y="61120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71920" y="492300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82480" y="411660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 flipV="1">
            <a:off x="1981080" y="230004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5043600"/>
            <a:ext cx="1295280" cy="30456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5638680" y="3290760"/>
            <a:ext cx="609840" cy="106704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01400" y="2193480"/>
            <a:ext cx="5162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criber units are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551556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elivers large bands of data up to OC-3 an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27400" y="4343040"/>
            <a:ext cx="3506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ne of sigh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3160" y="3276000"/>
            <a:ext cx="6371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eed big customers clos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-3 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533520" y="2209680"/>
            <a:ext cx="1752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ich of these customers want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OC-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96840" y="2133720"/>
            <a:ext cx="2508120" cy="2195280"/>
            <a:chOff x="996840" y="2133720"/>
            <a:chExt cx="2508120" cy="2195280"/>
          </a:xfrm>
        </p:grpSpPr>
        <p:sp>
          <p:nvSpPr>
            <p:cNvPr id="585" name=""/>
            <p:cNvSpPr/>
            <p:nvPr/>
          </p:nvSpPr>
          <p:spPr>
            <a:xfrm>
              <a:off x="1257480" y="2334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36640" y="2220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13040" y="2900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71040" y="213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5960" y="2698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33960" y="2190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50120" y="3255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19120" y="346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05880" y="3724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41600" y="38206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96840" y="42426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58880" y="4156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36120" y="3006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65520" y="41464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77400" y="35524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09160" y="3149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962520" y="2652840"/>
            <a:ext cx="2507760" cy="2195280"/>
            <a:chOff x="3962520" y="2652840"/>
            <a:chExt cx="2507760" cy="2195280"/>
          </a:xfrm>
        </p:grpSpPr>
        <p:sp>
          <p:nvSpPr>
            <p:cNvPr id="604" name=""/>
            <p:cNvSpPr/>
            <p:nvPr/>
          </p:nvSpPr>
          <p:spPr>
            <a:xfrm>
              <a:off x="4223160" y="2854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02320" y="2739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78360" y="3419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36360" y="2652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61640" y="3218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9280" y="2709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15440" y="3774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84800" y="3985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71560" y="4243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06920" y="4339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47617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24560" y="467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01440" y="3525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30840" y="4665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42720" y="40716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74840" y="3668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752480" y="4405320"/>
            <a:ext cx="2508120" cy="2195640"/>
            <a:chOff x="1752480" y="4405320"/>
            <a:chExt cx="2508120" cy="2195640"/>
          </a:xfrm>
        </p:grpSpPr>
        <p:sp>
          <p:nvSpPr>
            <p:cNvPr id="621" name=""/>
            <p:cNvSpPr/>
            <p:nvPr/>
          </p:nvSpPr>
          <p:spPr>
            <a:xfrm>
              <a:off x="2013120" y="46065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92280" y="44917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8680" y="51721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26680" y="440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51600" y="4970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9600" y="4462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05760" y="55267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74760" y="5737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61520" y="5996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97240" y="60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52480" y="65145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14520" y="642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91760" y="527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21160" y="64184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33040" y="58244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4800" y="54212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105520" y="4176720"/>
            <a:ext cx="2507760" cy="2195640"/>
            <a:chOff x="5105520" y="4176720"/>
            <a:chExt cx="2507760" cy="2195640"/>
          </a:xfrm>
        </p:grpSpPr>
        <p:sp>
          <p:nvSpPr>
            <p:cNvPr id="638" name=""/>
            <p:cNvSpPr/>
            <p:nvPr/>
          </p:nvSpPr>
          <p:spPr>
            <a:xfrm>
              <a:off x="5366160" y="4377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45320" y="4263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21360" y="4943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79360" y="4176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4640" y="474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42280" y="4233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58440" y="5298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7800" y="5509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14560" y="5767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9920" y="58640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05520" y="62859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67560" y="6199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44440" y="50493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73840" y="61898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85720" y="55958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17840" y="51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176480" y="2133720"/>
            <a:ext cx="6824160" cy="4394160"/>
            <a:chOff x="1176480" y="2133720"/>
            <a:chExt cx="6824160" cy="4394160"/>
          </a:xfrm>
        </p:grpSpPr>
        <p:sp>
          <p:nvSpPr>
            <p:cNvPr id="655" name=""/>
            <p:cNvSpPr/>
            <p:nvPr/>
          </p:nvSpPr>
          <p:spPr>
            <a:xfrm>
              <a:off x="1885680" y="25369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89240" y="230688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68760" y="366876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35600" y="21337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27440" y="32655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86080" y="22482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218280" y="437832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25600" y="48006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0120" y="53182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27840" y="551052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76480" y="635472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77920" y="61819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40560" y="388008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87880" y="616284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71920" y="497376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82480" y="41673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 flipV="1">
            <a:off x="1981080" y="234756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33920" y="5091120"/>
            <a:ext cx="1295280" cy="30492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5638680" y="3338280"/>
            <a:ext cx="609840" cy="106668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73520" y="2118240"/>
            <a:ext cx="69364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 can work in large urban cen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ere the distance between bi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ndwidth customers is shor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ustomers can support th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73280" y="5083920"/>
            <a:ext cx="56959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Our company does not 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ny large urban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678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040" y="3344400"/>
            <a:ext cx="327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e Station very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$$$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M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46160" y="497844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re not free either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702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een%20air" descr=""/>
          <p:cNvPicPr/>
          <p:nvPr/>
        </p:nvPicPr>
        <p:blipFill>
          <a:blip r:embed="rId1"/>
          <a:stretch/>
        </p:blipFill>
        <p:spPr>
          <a:xfrm>
            <a:off x="-1219320" y="-431640"/>
            <a:ext cx="10896840" cy="7262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6324840" cy="1143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er 2 and Tier 3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 Area 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H. Rior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ve Vice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eader-logo" descr=""/>
          <p:cNvPicPr/>
          <p:nvPr/>
        </p:nvPicPr>
        <p:blipFill>
          <a:blip r:embed="rId2"/>
          <a:stretch/>
        </p:blipFill>
        <p:spPr>
          <a:xfrm>
            <a:off x="3753000" y="4876920"/>
            <a:ext cx="1581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22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41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lind Sp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51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69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70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800600" y="2057400"/>
            <a:ext cx="1523880" cy="2590920"/>
            <a:chOff x="4800600" y="2057400"/>
            <a:chExt cx="1523880" cy="2590920"/>
          </a:xfrm>
        </p:grpSpPr>
        <p:sp>
          <p:nvSpPr>
            <p:cNvPr id="777" name=""/>
            <p:cNvSpPr/>
            <p:nvPr/>
          </p:nvSpPr>
          <p:spPr>
            <a:xfrm>
              <a:off x="4800600" y="205740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3048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4191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 MORE T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90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s Cost $$$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18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quires Frequency Coordin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0" y="3805200"/>
            <a:ext cx="2119320" cy="1728720"/>
          </a:xfrm>
          <a:custGeom>
            <a:avLst/>
            <a:gdLst/>
            <a:ahLst/>
            <a:rect l="l" t="t" r="r" b="b"/>
            <a:pathLst>
              <a:path w="1335" h="1089">
                <a:moveTo>
                  <a:pt x="246" y="3"/>
                </a:moveTo>
                <a:lnTo>
                  <a:pt x="1335" y="579"/>
                </a:lnTo>
                <a:lnTo>
                  <a:pt x="1221" y="738"/>
                </a:lnTo>
                <a:lnTo>
                  <a:pt x="1074" y="879"/>
                </a:lnTo>
                <a:lnTo>
                  <a:pt x="933" y="990"/>
                </a:lnTo>
                <a:lnTo>
                  <a:pt x="759" y="1089"/>
                </a:lnTo>
                <a:lnTo>
                  <a:pt x="534" y="963"/>
                </a:lnTo>
                <a:lnTo>
                  <a:pt x="327" y="777"/>
                </a:lnTo>
                <a:lnTo>
                  <a:pt x="171" y="570"/>
                </a:lnTo>
                <a:lnTo>
                  <a:pt x="72" y="378"/>
                </a:lnTo>
                <a:lnTo>
                  <a:pt x="18" y="180"/>
                </a:lnTo>
                <a:lnTo>
                  <a:pt x="0" y="0"/>
                </a:lnTo>
                <a:lnTo>
                  <a:pt x="246" y="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47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9040" y="1980360"/>
            <a:ext cx="80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 started Wednesday, February 1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128 rounds ending March 2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1200" y="3366360"/>
            <a:ext cx="71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ate very few successful deploy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9400" y="4236120"/>
            <a:ext cx="751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now only two options for de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 WE NEED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KE IT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Effective at &lt; 1 meg to 25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it Blind Sp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ver Larger Area (w/ limited big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99.999% ‘Up Time’ (carrier g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ndant Routes (multiple path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t Deployment (easy align and mou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Bandwidth (change w/o vis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THE CUSTOMER W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things customers need in the big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90720" y="290988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speed connec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 office / home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s /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ch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 site data storage (9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91320" y="3124080"/>
            <a:ext cx="2590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as fast as large busin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few meg will do for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05740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of cours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304920" y="932040"/>
          <a:ext cx="8381880" cy="56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32040"/>
                    <a:ext cx="83818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8" name=""/>
          <p:cNvGrpSpPr/>
          <p:nvPr/>
        </p:nvGrpSpPr>
        <p:grpSpPr>
          <a:xfrm>
            <a:off x="840240" y="1186920"/>
            <a:ext cx="7770240" cy="4559760"/>
            <a:chOff x="840240" y="1186920"/>
            <a:chExt cx="7770240" cy="4559760"/>
          </a:xfrm>
        </p:grpSpPr>
        <p:graphicFrame>
          <p:nvGraphicFramePr>
            <p:cNvPr id="879" name=""/>
            <p:cNvGraphicFramePr/>
            <p:nvPr/>
          </p:nvGraphicFramePr>
          <p:xfrm>
            <a:off x="5334120" y="2590920"/>
            <a:ext cx="3276360" cy="3155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2590920"/>
                      <a:ext cx="3276360" cy="31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81" name=""/>
            <p:cNvGrpSpPr/>
            <p:nvPr/>
          </p:nvGrpSpPr>
          <p:grpSpPr>
            <a:xfrm>
              <a:off x="840240" y="1186920"/>
              <a:ext cx="7768800" cy="4281840"/>
              <a:chOff x="840240" y="1186920"/>
              <a:chExt cx="7768800" cy="4281840"/>
            </a:xfrm>
          </p:grpSpPr>
          <p:graphicFrame>
            <p:nvGraphicFramePr>
              <p:cNvPr id="882" name=""/>
              <p:cNvGraphicFramePr/>
              <p:nvPr/>
            </p:nvGraphicFramePr>
            <p:xfrm>
              <a:off x="1369800" y="1390680"/>
              <a:ext cx="6097680" cy="4078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69800" y="1390680"/>
                        <a:ext cx="6097680" cy="40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84" name=""/>
              <p:cNvSpPr txBox="1"/>
              <p:nvPr/>
            </p:nvSpPr>
            <p:spPr>
              <a:xfrm>
                <a:off x="5941800" y="3314880"/>
                <a:ext cx="60984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7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5865840" y="43052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3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7008840" y="38480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36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1674720" y="3543480"/>
                <a:ext cx="137160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5,951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40240" y="1186920"/>
                <a:ext cx="707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Green Bay Small/Medium Busines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228320" y="1899720"/>
                <a:ext cx="29347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-25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1-50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17920" y="1964160"/>
                <a:ext cx="4191120" cy="7038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Target Market in Gre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~  6,000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988920" y="2133720"/>
                <a:ext cx="53352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780240" y="2743200"/>
                <a:ext cx="38088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188960" y="2743200"/>
                <a:ext cx="2590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88920" y="2133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2438280" y="5409000"/>
            <a:ext cx="5936400" cy="1222920"/>
            <a:chOff x="2438280" y="5409000"/>
            <a:chExt cx="5936400" cy="1222920"/>
          </a:xfrm>
        </p:grpSpPr>
        <p:sp>
          <p:nvSpPr>
            <p:cNvPr id="896" name=""/>
            <p:cNvSpPr/>
            <p:nvPr/>
          </p:nvSpPr>
          <p:spPr>
            <a:xfrm>
              <a:off x="4868640" y="5409000"/>
              <a:ext cx="350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501-1000 Employees (dark b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000+ Employees (light b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6172200"/>
              <a:ext cx="57913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Large Businesses in Blue Served by F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3352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THERE ANY CUST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03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08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16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286000"/>
            <a:ext cx="18288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don’t have a NFL team o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Lambea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76920"/>
            <a:ext cx="37335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LLAGES &amp; TOW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85800" y="2209680"/>
            <a:ext cx="1600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f priced right it can work in villages  and small t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31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36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44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167652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midwest%20pop" descr=""/>
          <p:cNvPicPr/>
          <p:nvPr/>
        </p:nvPicPr>
        <p:blipFill>
          <a:blip r:embed="rId1"/>
          <a:stretch/>
        </p:blipFill>
        <p:spPr>
          <a:xfrm>
            <a:off x="-4114800" y="-533520"/>
            <a:ext cx="13411080" cy="975384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251460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Nsight Telservices </a:t>
            </a:r>
            <a:br>
              <a:rPr sz="4400"/>
            </a:b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Has Cho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13000" y="4769280"/>
            <a:ext cx="49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5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Radiant-jpeg2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886200" cy="1503360"/>
          </a:xfrm>
          <a:prstGeom prst="rect">
            <a:avLst/>
          </a:prstGeom>
          <a:ln w="0">
            <a:noFill/>
          </a:ln>
        </p:spPr>
      </p:pic>
      <p:pic>
        <p:nvPicPr>
          <p:cNvPr id="958" name="ant3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991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mise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Radi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0" name="oslothumb" descr=""/>
          <p:cNvPicPr/>
          <p:nvPr/>
        </p:nvPicPr>
        <p:blipFill>
          <a:blip r:embed="rId1"/>
          <a:stretch/>
        </p:blipFill>
        <p:spPr>
          <a:xfrm>
            <a:off x="609480" y="1901880"/>
            <a:ext cx="7925040" cy="429264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625400" y="11563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32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96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91640" y="4770000"/>
            <a:ext cx="376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Mesh Subscriber Nod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lightly more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than today’s P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65200" y="30934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No costly PMP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Base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08200" y="3541680"/>
            <a:ext cx="2568600" cy="73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2855520" y="3159000"/>
            <a:ext cx="2530440" cy="29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782720" y="2390760"/>
            <a:ext cx="1111320" cy="3646440"/>
          </a:xfrm>
          <a:custGeom>
            <a:avLst/>
            <a:gdLst/>
            <a:ahLst/>
            <a:rect l="l" t="t" r="r" b="b"/>
            <a:pathLst>
              <a:path w="58" h="190">
                <a:moveTo>
                  <a:pt x="23" y="119"/>
                </a:moveTo>
                <a:lnTo>
                  <a:pt x="0" y="0"/>
                </a:lnTo>
                <a:lnTo>
                  <a:pt x="58" y="19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209680" y="3581280"/>
            <a:ext cx="129564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09680" y="4648320"/>
            <a:ext cx="60984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1752120" y="2361960"/>
            <a:ext cx="1752840" cy="1143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581280" y="3123720"/>
            <a:ext cx="182880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409720" y="3124080"/>
            <a:ext cx="68580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85640" y="4267080"/>
            <a:ext cx="380988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2895480" y="4267080"/>
            <a:ext cx="320040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1752480" y="2362320"/>
            <a:ext cx="3657600" cy="761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00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5410080" y="2209680"/>
            <a:ext cx="2210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PTICAL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BER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UTE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19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457200" y="898560"/>
            <a:ext cx="8153280" cy="7034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s Grow As Customers Sign U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25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26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2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40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42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1828800" y="2133360"/>
            <a:ext cx="121932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1371600" y="2438280"/>
            <a:ext cx="38088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124080" y="2133720"/>
            <a:ext cx="1828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5029200" y="1981080"/>
            <a:ext cx="2514600" cy="152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7467480" y="1981080"/>
            <a:ext cx="76320" cy="1752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67480" y="3733920"/>
            <a:ext cx="304920" cy="1676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5943600" y="5410080"/>
            <a:ext cx="1752480" cy="609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971440" y="6019920"/>
            <a:ext cx="2895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1066680" y="6019920"/>
            <a:ext cx="182880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9480" y="457200"/>
            <a:ext cx="787572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the System Grows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Be Redesigned Remot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71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tennas Remotely Mov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RUCK R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ant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755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78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79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2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93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9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Demand Grows More Capacity Is Inserted Into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15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18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0"/>
            <a:ext cx="1828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0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7339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0" y="0"/>
                </a:moveTo>
                <a:lnTo>
                  <a:pt x="1008" y="528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5029200"/>
            <a:ext cx="1676160" cy="152388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432" y="0"/>
                </a:moveTo>
                <a:lnTo>
                  <a:pt x="0" y="960"/>
                </a:lnTo>
                <a:lnTo>
                  <a:pt x="720" y="960"/>
                </a:lnTo>
                <a:lnTo>
                  <a:pt x="1056" y="288"/>
                </a:lnTo>
                <a:lnTo>
                  <a:pt x="432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2742840"/>
            <a:ext cx="327636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429000"/>
            <a:ext cx="2819520" cy="2133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429000"/>
            <a:ext cx="144756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23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7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38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40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144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153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 Mesh is Rerouted to Adjust for Customer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73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76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81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8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96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98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202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211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962520" y="2220840"/>
            <a:ext cx="612720" cy="137160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rmesh" descr=""/>
          <p:cNvPicPr/>
          <p:nvPr/>
        </p:nvPicPr>
        <p:blipFill>
          <a:blip r:embed="rId1"/>
          <a:stretch/>
        </p:blipFill>
        <p:spPr>
          <a:xfrm>
            <a:off x="380880" y="1865160"/>
            <a:ext cx="8153640" cy="468792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1295280" y="264636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‘Line of Sigh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95280" y="3352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295280" y="411480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- 9’s  Reliability  - ‘QoS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95280" y="48769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Rou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95280" y="19051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ustomer 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10667880" y="525780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1295280" y="5638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Low Cost Instal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09480" y="2209680"/>
            <a:ext cx="76201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 Much M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green%20bay%20by%20air" descr=""/>
          <p:cNvPicPr/>
          <p:nvPr/>
        </p:nvPicPr>
        <p:blipFill>
          <a:blip r:embed="rId1"/>
          <a:stretch/>
        </p:blipFill>
        <p:spPr>
          <a:xfrm>
            <a:off x="-914400" y="0"/>
            <a:ext cx="10439280" cy="69562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838080" y="476280"/>
            <a:ext cx="7620120" cy="135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 Beleive MeshWork'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or Nsigh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cowclose" descr=""/>
          <p:cNvPicPr/>
          <p:nvPr/>
        </p:nvPicPr>
        <p:blipFill>
          <a:blip r:embed="rId1"/>
          <a:stretch/>
        </p:blipFill>
        <p:spPr>
          <a:xfrm>
            <a:off x="488880" y="0"/>
            <a:ext cx="4159440" cy="601992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4683600" y="532800"/>
            <a:ext cx="41536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from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eartl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Wisconsin, US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Dairy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196360" y="601884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’s e-mail - ceo@netnet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2286000"/>
            <a:ext cx="18288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cke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ME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3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733920"/>
            <a:ext cx="1609560" cy="2590560"/>
          </a:xfrm>
          <a:custGeom>
            <a:avLst/>
            <a:gdLst/>
            <a:ahLst/>
            <a:rect l="l" t="t" r="r" b="b"/>
            <a:pathLst>
              <a:path w="1014" h="1632">
                <a:moveTo>
                  <a:pt x="0" y="0"/>
                </a:moveTo>
                <a:lnTo>
                  <a:pt x="1014" y="480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90760" y="5029200"/>
            <a:ext cx="1662120" cy="1581120"/>
          </a:xfrm>
          <a:custGeom>
            <a:avLst/>
            <a:gdLst/>
            <a:ahLst/>
            <a:rect l="l" t="t" r="r" b="b"/>
            <a:pathLst>
              <a:path w="1047" h="996">
                <a:moveTo>
                  <a:pt x="423" y="0"/>
                </a:moveTo>
                <a:lnTo>
                  <a:pt x="0" y="993"/>
                </a:lnTo>
                <a:lnTo>
                  <a:pt x="702" y="996"/>
                </a:lnTo>
                <a:lnTo>
                  <a:pt x="1047" y="288"/>
                </a:lnTo>
                <a:lnTo>
                  <a:pt x="423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1320" y="3048120"/>
            <a:ext cx="6253200" cy="3581280"/>
          </a:xfrm>
          <a:custGeom>
            <a:avLst/>
            <a:gdLst/>
            <a:ahLst/>
            <a:rect l="l" t="t" r="r" b="b"/>
            <a:pathLst>
              <a:path w="3939" h="2256">
                <a:moveTo>
                  <a:pt x="9" y="120"/>
                </a:moveTo>
                <a:lnTo>
                  <a:pt x="483" y="384"/>
                </a:lnTo>
                <a:lnTo>
                  <a:pt x="819" y="0"/>
                </a:lnTo>
                <a:lnTo>
                  <a:pt x="1347" y="816"/>
                </a:lnTo>
                <a:lnTo>
                  <a:pt x="3315" y="1776"/>
                </a:lnTo>
                <a:lnTo>
                  <a:pt x="3939" y="864"/>
                </a:lnTo>
                <a:lnTo>
                  <a:pt x="3939" y="2256"/>
                </a:lnTo>
                <a:lnTo>
                  <a:pt x="1278" y="2241"/>
                </a:lnTo>
                <a:lnTo>
                  <a:pt x="1683" y="1536"/>
                </a:lnTo>
                <a:lnTo>
                  <a:pt x="1059" y="1248"/>
                </a:lnTo>
                <a:lnTo>
                  <a:pt x="633" y="2241"/>
                </a:lnTo>
                <a:lnTo>
                  <a:pt x="0" y="2241"/>
                </a:lnTo>
                <a:lnTo>
                  <a:pt x="3" y="2064"/>
                </a:lnTo>
                <a:lnTo>
                  <a:pt x="195" y="1728"/>
                </a:lnTo>
                <a:lnTo>
                  <a:pt x="579" y="1920"/>
                </a:lnTo>
                <a:lnTo>
                  <a:pt x="1011" y="912"/>
                </a:lnTo>
                <a:lnTo>
                  <a:pt x="3" y="432"/>
                </a:lnTo>
                <a:lnTo>
                  <a:pt x="9" y="12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752480" y="4038480"/>
            <a:ext cx="1752840" cy="99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952880"/>
            <a:ext cx="4191120" cy="137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286000"/>
            <a:ext cx="16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very many tall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orporate" descr=""/>
          <p:cNvPicPr/>
          <p:nvPr/>
        </p:nvPicPr>
        <p:blipFill>
          <a:blip r:embed="rId2"/>
          <a:stretch/>
        </p:blipFill>
        <p:spPr>
          <a:xfrm>
            <a:off x="1600200" y="2243160"/>
            <a:ext cx="4343400" cy="3697200"/>
          </a:xfrm>
          <a:prstGeom prst="rect">
            <a:avLst/>
          </a:prstGeom>
          <a:ln w="0">
            <a:noFill/>
          </a:ln>
        </p:spPr>
      </p:pic>
      <p:pic>
        <p:nvPicPr>
          <p:cNvPr id="82" name="oldhouse2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3200400" cy="301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43400" y="1676520"/>
            <a:ext cx="2133720" cy="36576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9880" y="2895480"/>
            <a:ext cx="3257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ees block LM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09680"/>
            <a:ext cx="12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are one and two stories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Blind Sp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ia3" descr=""/>
          <p:cNvPicPr/>
          <p:nvPr/>
        </p:nvPicPr>
        <p:blipFill>
          <a:blip r:embed="rId1"/>
          <a:stretch/>
        </p:blipFill>
        <p:spPr>
          <a:xfrm>
            <a:off x="533520" y="1911240"/>
            <a:ext cx="80769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LOVE OUR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green%20bay%20section%20air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400800" cy="4647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09680"/>
            <a:ext cx="16765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mall towns   love       our    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d we have lots of trees in Wiscon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5:29:58Z</dcterms:created>
  <dc:creator>Cellcom</dc:creator>
  <dc:description/>
  <dc:language>en-US</dc:language>
  <cp:lastModifiedBy>Cellcom</cp:lastModifiedBy>
  <dcterms:modified xsi:type="dcterms:W3CDTF">2002-02-06T13:52:17Z</dcterms:modified>
  <cp:revision>7</cp:revision>
  <dc:subject/>
  <dc:title>No Slide Title</dc:title>
</cp:coreProperties>
</file>