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7-bod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274920" y="6366960"/>
            <a:ext cx="32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Proprietary and Confidential- subject to nondisclosure 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367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Arial"/>
              </a:rPr>
              <a:t>Page </a:t>
            </a:r>
            <a:fld id="{FC613F77-287E-4706-A3E8-45E89231340B}" type="slidenum">
              <a:rPr b="0" lang="en-US" sz="8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16600" y="6066000"/>
            <a:ext cx="2327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pwlogo-white" descr=""/>
          <p:cNvPicPr/>
          <p:nvPr/>
        </p:nvPicPr>
        <p:blipFill>
          <a:blip r:embed="rId3"/>
          <a:stretch/>
        </p:blipFill>
        <p:spPr>
          <a:xfrm>
            <a:off x="7164360" y="6213600"/>
            <a:ext cx="167976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-31-01-temp-cover-blan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600" y="3936960"/>
            <a:ext cx="646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ipwireless" descr=""/>
          <p:cNvPicPr/>
          <p:nvPr/>
        </p:nvPicPr>
        <p:blipFill>
          <a:blip r:embed="rId3"/>
          <a:stretch/>
        </p:blipFill>
        <p:spPr>
          <a:xfrm>
            <a:off x="2095560" y="172080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gpp.org/Main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6563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livering NLOS Wireless Broadband Using CDMA-Based Solution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029200"/>
            <a:ext cx="3494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oger Quayle, CTO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ebruary 2002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2680" y="6424560"/>
            <a:ext cx="45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Proprietary and confidential</a:t>
            </a:r>
            <a:r>
              <a:rPr b="0" lang="en-GB" sz="1200" spc="-1" strike="noStrike">
                <a:solidFill>
                  <a:srgbClr val="00005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- subject to nondisclosur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ability and Mo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supports fixed, portable and mobil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requirement to support high speed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and fixed operation comes for free, and with higher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echniques for coping with high speed are inherent in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Frame and Burs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ha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eaving, FEC, Rate Match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ell selection / reselection and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PWireless TD-CDMA solution supports mobility at 70mph (as per standard), and in practice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urther Enhancemen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HSP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 speed downlink packe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modulation, additional cod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in good C/I conditions fully utilize capability of radio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rates up to 16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Antennas in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owerful air interface that can achieve maximum performance through signal processing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 to achieve performance in silicon than in “iron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supports smart antennas as an enhancement, IPWireless plans to implement in accordance with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ennas have most benefit in capacity (reduced C/I) rather than coverage (as proven in cellular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380880" y="4267080"/>
            <a:ext cx="8229600" cy="1905120"/>
          </a:xfrm>
          <a:prstGeom prst="pie">
            <a:avLst/>
          </a:prstGeom>
          <a:solidFill>
            <a:srgbClr val="cafd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3657600"/>
          <a:ext cx="22003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2003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conomy of Scale in Serving Multiple Marke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51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MTS (such as IPWireless), an operator enjoys the economies of scale of a single infrastructure investment serving multiple marke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3276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0120" y="3200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5051520"/>
            <a:ext cx="1263600" cy="231840"/>
          </a:xfrm>
          <a:prstGeom prst="ellipse">
            <a:avLst/>
          </a:prstGeom>
          <a:gradFill rotWithShape="0">
            <a:gsLst>
              <a:gs pos="0">
                <a:srgbClr val="7c92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8880" y="5334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UMTS TD-CDM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4114800"/>
          <a:ext cx="2237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2237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3276720" y="3276720"/>
            <a:ext cx="2742840" cy="1932480"/>
            <a:chOff x="3276720" y="3276720"/>
            <a:chExt cx="2742840" cy="1932480"/>
          </a:xfrm>
        </p:grpSpPr>
        <p:sp>
          <p:nvSpPr>
            <p:cNvPr id="151" name=""/>
            <p:cNvSpPr/>
            <p:nvPr/>
          </p:nvSpPr>
          <p:spPr>
            <a:xfrm>
              <a:off x="3276720" y="3276720"/>
              <a:ext cx="2742840" cy="230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e2e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39600" y="3739680"/>
              <a:ext cx="2013840" cy="1469520"/>
              <a:chOff x="3639600" y="3739680"/>
              <a:chExt cx="2013840" cy="146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3920" y="3918240"/>
                <a:ext cx="1919520" cy="1290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airportBU004285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9600" y="3739680"/>
                <a:ext cx="1894680" cy="1317600"/>
              </a:xfrm>
              <a:prstGeom prst="rect">
                <a:avLst/>
              </a:prstGeom>
              <a:ln w="19080">
                <a:solidFill>
                  <a:srgbClr val="aab8c4"/>
                </a:solidFill>
                <a:miter/>
              </a:ln>
            </p:spPr>
          </p:pic>
        </p:grpSp>
      </p:grpSp>
      <p:graphicFrame>
        <p:nvGraphicFramePr>
          <p:cNvPr id="155" name=""/>
          <p:cNvGraphicFramePr/>
          <p:nvPr/>
        </p:nvGraphicFramePr>
        <p:xfrm>
          <a:off x="6019920" y="4267080"/>
          <a:ext cx="194616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1946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7760" y="1828440"/>
            <a:ext cx="7078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 provide the most powerful and flexible foundation for broadband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D-CDMA branch of UMTS is best for high speed packet data, TDD advantageous in fragment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LOS operation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ity and portability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TS provides a level of sophistication and performance which cannot easil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ational standards essential for major worldwid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1" t="0" r="2244" b="3722"/>
          <a:stretch/>
        </p:blipFill>
        <p:spPr>
          <a:xfrm>
            <a:off x="6019920" y="1752480"/>
            <a:ext cx="3327120" cy="4395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day’s Discuss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93600" y="1828440"/>
            <a:ext cx="4964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DMA is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MTS TD-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UMTS TD-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Wirele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– coverage, throughput, mobil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hy CDMA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9040" y="1904760"/>
            <a:ext cx="7007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ver other candidates (TDMA, OFDM) for UMTS 3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s noise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/I performance – permits n=1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spreading, coding,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annels mutually non-inter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045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t all CDMA is Created Equal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828440"/>
            <a:ext cx="69357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2000 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echnology, evolution from IS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imposed by narrow channels, legac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ed in Europea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SCD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nese version, low chip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hiprate (narrow channel) limits broadba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uplink no use in non-LOS multipat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cceptance outside of Chines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s standard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 less sophisticated in system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CDMA high chip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04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TD-CD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HCR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designed from the outset to ser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rtable and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is inherently broadband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, wide channel bandwidth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chnology mode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herently enables non-LOS, self-installation, roaming,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ion in fragmented spectrum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 adjustment to match Internet traffic (a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wi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economies of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arket – not limited to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GPP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28600"/>
            <a:ext cx="2057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timizing UMTS for Broadband Internet Acces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ets minimum targets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an be increased while maintaining full standards compliance, using advanced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Wireless has chosen 3GPP TD-CD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 structure 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data rates relative to 3GPP 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P based 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Radio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Shared Channel concept fully explo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multiplexing allows higher cell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TD-CDMA for Broadband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link budget – supports larg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throughput up to 8 Mbps at 7.68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release 5 increases to &gt;16 Mb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PW Optimization Techniqu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gonal multi-code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apacity of radio channel (orthogonal code channels mutually non-inter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s throughput for high speed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s orthogonality between codes in a multipath environment, effectively “canceling”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near-far effect of multip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ly combines multipath, turning multipath to an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4648320"/>
            <a:ext cx="5364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in Non-Line-of-Sight Oper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799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requ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ystem gain to counteract pathloss and building penetration los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eal with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is inherent in U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damental requirement for mobile and portable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TS 30-03 ‘channel B” specifies a 6 path model, each path individually Rayleigh faded, with a multipath delay spread up to 4 microces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TD-CDMA solution from IPWire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s high system gain through orthogonal multicode and join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ly combines multipath, increasing effective receiver sensitivity (function of joint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911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structive Combining of Multipath Using Joint Detec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3733920"/>
          <a:ext cx="9079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9079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43200" y="1676520"/>
          <a:ext cx="10508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76520"/>
                    <a:ext cx="10508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124080" y="3886200"/>
          <a:ext cx="17528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1752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86000" y="5622840"/>
          <a:ext cx="160020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22840"/>
                    <a:ext cx="160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67480" y="1981080"/>
          <a:ext cx="1295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1981080"/>
                    <a:ext cx="129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3505320"/>
          <a:ext cx="1905120" cy="15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9051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modem-Exiso02%20copy" descr=""/>
          <p:cNvPicPr/>
          <p:nvPr/>
        </p:nvPicPr>
        <p:blipFill>
          <a:blip r:embed="rId13"/>
          <a:srcRect l="0" t="8282" r="0" b="0"/>
          <a:stretch/>
        </p:blipFill>
        <p:spPr>
          <a:xfrm>
            <a:off x="5943600" y="4419720"/>
            <a:ext cx="49860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676520" y="2438280"/>
            <a:ext cx="18288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190512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419720"/>
            <a:ext cx="53352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3716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4800600"/>
            <a:ext cx="304812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62920" y="5181480"/>
          <a:ext cx="175248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5181480"/>
                    <a:ext cx="1752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1600200" y="2514600"/>
            <a:ext cx="59436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48520" y="2590920"/>
            <a:ext cx="1295280" cy="190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5909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400440" y="4724280"/>
            <a:ext cx="15238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486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486400"/>
            <a:ext cx="60984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lnTo>
                  <a:pt x="0" y="0"/>
                </a:lnTo>
                <a:lnTo>
                  <a:pt x="48" y="432"/>
                </a:lnTo>
                <a:lnTo>
                  <a:pt x="48" y="192"/>
                </a:lnTo>
                <a:lnTo>
                  <a:pt x="96" y="432"/>
                </a:lnTo>
                <a:lnTo>
                  <a:pt x="96" y="240"/>
                </a:lnTo>
                <a:lnTo>
                  <a:pt x="144" y="432"/>
                </a:lnTo>
                <a:lnTo>
                  <a:pt x="144" y="96"/>
                </a:lnTo>
                <a:lnTo>
                  <a:pt x="192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6:44:17Z</dcterms:created>
  <dc:creator>Roger</dc:creator>
  <dc:description/>
  <dc:language>en-US</dc:language>
  <cp:lastModifiedBy>Roger</cp:lastModifiedBy>
  <dcterms:modified xsi:type="dcterms:W3CDTF">2002-02-10T03:36:26Z</dcterms:modified>
  <cp:revision>11</cp:revision>
  <dc:subject/>
  <dc:title>Delivering NLOS Wireless Broadband Using CDMA-Based Solutions</dc:title>
</cp:coreProperties>
</file>