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2981-24A4-44E1-8899-A41400F1D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2EBE-526F-442D-930A-9DFD0AE1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1D73-98A4-48F6-B922-A47BB19FE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C370-6D17-46C9-83B0-DE9171AE3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5AB2-F9B7-4B20-B301-09A2D89B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7D44-A217-4724-8D82-7CCEEB7A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1FF6-88D4-4327-AFF6-661194CF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E0DC-C725-4EA9-A31C-329B8414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9947-E0E5-4D77-AD26-B83016F0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E430-E120-4132-A5D6-A9E47286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F110-71B4-48B1-B52C-D7525792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99B5-CF55-4FA9-B249-3A2ADB79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7FA9-2627-429A-A584-BC2214D679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" descr=""/>
          <p:cNvPicPr/>
          <p:nvPr/>
        </p:nvPicPr>
        <p:blipFill>
          <a:blip r:embed="rId2"/>
          <a:stretch/>
        </p:blipFill>
        <p:spPr>
          <a:xfrm>
            <a:off x="3086280" y="6248520"/>
            <a:ext cx="2962080" cy="45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3000" y="1905120"/>
            <a:ext cx="6400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ecurity in Wireless Network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Licensed Frequency Product (con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DES- based encryption solu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 70,000,000,000,000,000 (seventy quadrillion) possible keys of 56 bi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 key by ti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ndom key cre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que set of keys per lin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Issues Encountered by airBand Customer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exclusive to wireless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ruses or Wor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romised Serv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hancements to Customer Securit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d-to-End Securit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F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P Layer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rus Sca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inue to work with vendors to keep security enhancements on the roadma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ducate the customer to be security conscio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U.S. computer systems are increasingly vulnerable to cyber attacks, partly because companies are not implementing security measures already available”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Experts estimate U.S. corporations spent about $12.3 billion to clean up damage from computer viruses in 2001. Some predict viruses and worms could cause even more damage in 2002”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Source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Computer Science and Telecommunications Boar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"Cybersecurity Today and Tomorrow: Pay Now or Pay Later“  January 200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Band network over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concerns of wireless network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features of different radios in the unlicensed and licensed frequenc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issues airBand has encounter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options to improve customers network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irBand Network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newnetdias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486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Concer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rised Dat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vesdropp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ruption of Servi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rruption / Loss of Dat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ysical Site Secur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hysical Site Securit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ured Building Ac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tricted Roof Acces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ured Facilit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quipment Securit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ked Cabine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ployee Identification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Unlicensed Produc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rambl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rietary Air Interface (Non- Standardiz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ynamic Securit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Unlicensed Products (con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 Sequence Spread Spectrum (DSSS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stomer-specific Management / Configur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cryption keys for secret access password feat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Licensed Frequency Produc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w transmission pow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rrow antenna be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k I.D. passwo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20:42:33Z</dcterms:created>
  <dc:creator>Amy</dc:creator>
  <dc:description/>
  <dc:language>en-US</dc:language>
  <cp:lastModifiedBy>mbinder</cp:lastModifiedBy>
  <dcterms:modified xsi:type="dcterms:W3CDTF">2002-02-08T19:27:19Z</dcterms:modified>
  <cp:revision>37</cp:revision>
  <dc:subject/>
  <dc:title>The Challenges of Differentiating Wireless Services </dc:title>
</cp:coreProperties>
</file>