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E57E0-E70F-42A0-A61F-1CA957E76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435E9-7820-4C01-8D6E-958917AF4A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74312-7E98-4855-8CA1-5A7DCC83F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5C2F6-7C25-4D9E-B7D5-39959FE09F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0F5FA-67DD-48CC-9E81-9ED564D55D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0D69B-BED8-49C0-BEE9-39B7CE4F2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20B4C-6D21-4948-B45C-8BC9FAF7A7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F316-578E-43B1-8FF2-700AA2893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6476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BEE93-4E48-46D8-8DE0-A4274B3DC1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C733-EF50-46E7-9969-BDF3FE60F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F4E3B-6DBE-44E9-BDB2-A7E90D2ED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CC464-174B-4FC8-BBAD-CB38565AC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EAED-D860-4CDB-B39D-2059252F4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447920"/>
            <a:ext cx="7391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yth of the Ubiquitous $0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oor Install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Malik Audeh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of Wireless Syste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ik.audeh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13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5486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s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equaliz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-domain equal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recovery from inevitable deep f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modulation and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of RF and modem at C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eceive diversity when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y not necessary in al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6101F-07ED-4D50-A2B3-1B5A4B8C03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638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rther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oor installation where link budget al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e to standards-based IEEE 802.16a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orous IEEE process, no single-vendor architectur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baseband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RF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0CF32-95C1-41E1-B9ED-5C5A480643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ervice tiers improve operator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 to serve ITFS licensees for more efficient spectrum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ed user         no streaming, no mult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560376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DB1AA-9D03-4C0D-A684-8C93B7301E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715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G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ally Delayed 3G services are arriving with data as an add-on to v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-speed, streaming data may have unknown effects to voice-based protoco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MA self-interference may have unknown effect on scal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deoff processing gain (robustness) for capa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56C9-04DD-483D-B6D3-1330A1850E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867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son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7160" y="1905120"/>
          <a:ext cx="87184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905120"/>
                    <a:ext cx="87184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4E2A5-7FD6-4A99-AA99-9E8BB0D117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5791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’ goals are 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, economical deployment strategy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complete system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learning curve of unproven technologies that have not even been depl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 a second-generation system that is founded on a reliable, scalable, globally deployed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increases probability of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655CA-BCC2-4BDC-93CB-A2B4745E1B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6120" y="914040"/>
            <a:ext cx="5459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 demand complete and economic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to meet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13769-7437-493D-86FE-E7F1B5214E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73915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y Requirements for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inst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S, 90%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-cost CPE ($50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alled c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0BDCD-5F14-48F8-9C9A-3EE4348D53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543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Install is a System-Wide 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oice of $0 install affects virtually every architectural system dec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ha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in Load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0FE2D-95FB-4DAB-B94C-953D859AA3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0 Install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ssibl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mforming, complex phased array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D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modula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O, multi-user 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$0 install is technically possible, but is only relevant if the product can be economically deployed to consumers and businesses on a timely basis to maximize market pene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EEA0-7F1E-4C16-901A-63CE56132E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our Industry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OFD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yCD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antenn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roduct fits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909CE-183A-41D9-9636-7CEF1B86D0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loy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of DSL and cable modem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+ years beh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not yet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wed build-as-you-grow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entir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-as-you-grow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7C27A-D9B6-42C4-A942-79039668C9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wth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965240"/>
            <a:ext cx="3610080" cy="3535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94640" y="3666960"/>
            <a:ext cx="60120" cy="590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010280" y="2687760"/>
            <a:ext cx="687600" cy="687240"/>
            <a:chOff x="7010280" y="2687760"/>
            <a:chExt cx="687600" cy="687240"/>
          </a:xfrm>
        </p:grpSpPr>
        <p:sp>
          <p:nvSpPr>
            <p:cNvPr id="58" name=""/>
            <p:cNvSpPr/>
            <p:nvPr/>
          </p:nvSpPr>
          <p:spPr>
            <a:xfrm>
              <a:off x="7010280" y="2687760"/>
              <a:ext cx="68760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46520" y="302724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483320" y="2309760"/>
            <a:ext cx="687600" cy="687600"/>
            <a:chOff x="7483320" y="2309760"/>
            <a:chExt cx="687600" cy="687600"/>
          </a:xfrm>
        </p:grpSpPr>
        <p:sp>
          <p:nvSpPr>
            <p:cNvPr id="61" name=""/>
            <p:cNvSpPr/>
            <p:nvPr/>
          </p:nvSpPr>
          <p:spPr>
            <a:xfrm>
              <a:off x="7483320" y="230976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19560" y="26496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389560" y="3195720"/>
            <a:ext cx="687240" cy="687240"/>
            <a:chOff x="5389560" y="3195720"/>
            <a:chExt cx="687240" cy="687240"/>
          </a:xfrm>
        </p:grpSpPr>
        <p:sp>
          <p:nvSpPr>
            <p:cNvPr id="64" name=""/>
            <p:cNvSpPr/>
            <p:nvPr/>
          </p:nvSpPr>
          <p:spPr>
            <a:xfrm>
              <a:off x="5389560" y="319572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25800" y="35352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800760" y="4444920"/>
            <a:ext cx="687600" cy="687600"/>
            <a:chOff x="6800760" y="4444920"/>
            <a:chExt cx="687600" cy="687600"/>
          </a:xfrm>
        </p:grpSpPr>
        <p:sp>
          <p:nvSpPr>
            <p:cNvPr id="67" name=""/>
            <p:cNvSpPr/>
            <p:nvPr/>
          </p:nvSpPr>
          <p:spPr>
            <a:xfrm>
              <a:off x="6800760" y="444492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37000" y="47847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593120" y="2922480"/>
            <a:ext cx="687240" cy="687600"/>
            <a:chOff x="7593120" y="2922480"/>
            <a:chExt cx="687240" cy="687600"/>
          </a:xfrm>
        </p:grpSpPr>
        <p:sp>
          <p:nvSpPr>
            <p:cNvPr id="70" name=""/>
            <p:cNvSpPr/>
            <p:nvPr/>
          </p:nvSpPr>
          <p:spPr>
            <a:xfrm>
              <a:off x="7593120" y="2922480"/>
              <a:ext cx="68724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29360" y="326232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156360" y="4457880"/>
            <a:ext cx="687240" cy="687240"/>
            <a:chOff x="6156360" y="4457880"/>
            <a:chExt cx="687240" cy="687240"/>
          </a:xfrm>
        </p:grpSpPr>
        <p:sp>
          <p:nvSpPr>
            <p:cNvPr id="73" name=""/>
            <p:cNvSpPr/>
            <p:nvPr/>
          </p:nvSpPr>
          <p:spPr>
            <a:xfrm>
              <a:off x="6156360" y="445788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92600" y="47973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38280" y="2468520"/>
            <a:ext cx="1295640" cy="1295640"/>
            <a:chOff x="2438280" y="2468520"/>
            <a:chExt cx="1295640" cy="1295640"/>
          </a:xfrm>
        </p:grpSpPr>
        <p:sp>
          <p:nvSpPr>
            <p:cNvPr id="76" name=""/>
            <p:cNvSpPr/>
            <p:nvPr/>
          </p:nvSpPr>
          <p:spPr>
            <a:xfrm>
              <a:off x="340812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0812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0812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0812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6548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6548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6548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2320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2320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2320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2320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8056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8056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8056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3828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3828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3828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3828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20320" y="3104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63320" y="26204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6836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5360" y="3426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8380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8380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25360" y="2780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6836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87400" y="5773680"/>
            <a:ext cx="3181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 to Market, Limited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35000"/>
            <a:ext cx="3610080" cy="3535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97080" y="5773680"/>
            <a:ext cx="401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 Market Coverage, Hotspot follow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68B59-6BC8-4C0B-883A-503740E4D0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6933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ving Ahead from a Solid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0,000 CPE proven on one base station, over 2,000 CPE proven on a single 6-MHz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Es deployed 1-35 miles from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high throughput under l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n disaster re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function despite interference and human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50,000 lines of continually enhanced field-hardened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d architecture for stronger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support of multiple backhaul options (many TDMA protocols preclude RF backhau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EB68A-2DCD-4C18-9A6A-C71DA0A9A2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6:26:27Z</dcterms:created>
  <dc:creator>audeh</dc:creator>
  <dc:description/>
  <dc:language>en-US</dc:language>
  <cp:lastModifiedBy>Karen Crain</cp:lastModifiedBy>
  <cp:lastPrinted>2002-02-08T19:22:59Z</cp:lastPrinted>
  <dcterms:modified xsi:type="dcterms:W3CDTF">2002-02-10T20:28:58Z</dcterms:modified>
  <cp:revision>46</cp:revision>
  <dc:subject/>
  <dc:title>What does the industry need?</dc:title>
</cp:coreProperties>
</file>