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7.jpeg" ContentType="image/jpeg"/>
  <Override PartName="/ppt/media/image11.png" ContentType="image/png"/>
  <Override PartName="/ppt/media/image4.pct" ContentType="image/x-pict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1F38-B22B-431F-86DF-703A4AADC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2 uses an almost identical PHY to 802.11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HiperLAN2 MAC has a connection-oriented protocol (similar to 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very session must be set up and torn down,  prior to exchang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connection orientation while good for constant rate traffic lik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likely prove Inefficient for Ethernet based applications, using IP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ard does not support Ad-hoc (peer-to-peer)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pplications requiring QOS are also being addressed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onnection-less protocols  with packet shaping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prove to be a good solution for distributing digital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within the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be too late to market to achieve penetration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become competitive with 80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.11h proposal addresses coexistence of 802.11a with HiperLAN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 DEC 99 defines frequency bands, power limits, coexistence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Dynamic Channel Selection (D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e receiver idle channel signal strength to detec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configure frequency channel to avoid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ontrols the process, Clients follow the AP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Transmit Power Control (T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pursue regulatory approval for its 802.11a products in Eur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on DCS and TPC features in its initial produ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build  .11h compliance into its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final issues with the standard are deci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DFFF-0C8A-4DBE-ABD0-128147915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ED2CC-F5AE-4D5F-8466-7B36D93D9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0179-292C-475C-AE08-46BE5F0AF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716B-8353-4605-BEAB-87D3EC674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DCEA-4F81-44F1-A274-DD6C15E8D8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FB2A-7032-4B77-984F-8F62C198B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A137-4D8E-4019-BA4F-A1AA37B4E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F302A-789D-48DD-87C2-09FC9C8DC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FC05-227C-4B75-8F10-875B4BEAE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1606-8899-486D-80E2-C16D9B365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2B8A-CECF-4DDC-A4C0-D7A4F9C6D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6F34-8990-49AC-8616-E458761FD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458200" y="640080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EB18-7F4C-41AE-91A2-249343DAD947}" type="slidenum">
              <a:rPr b="0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3" marL="148608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4" marL="1771560" indent="-1713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5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6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934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857160" indent="57240" algn="ctr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3" marL="1200240" indent="57240" algn="ctr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4" marL="1542960" indent="57240" algn="ctr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5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6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A Brief Review of 5Ghz Wireless Standard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Ken Haase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Proxim 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February 2002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08320" y="1260360"/>
            <a:ext cx="5959440" cy="415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Better Performance at Any Range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572000" cy="21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retains consistently higher data rates than 802.11b at all distanc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More robust modulation techniqu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orward error correction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5216400" y="5529960"/>
            <a:ext cx="2364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l values are radio rate in Mbps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ot all radio rates are shown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C Magazine 11a vs. 11b Comparis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32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5" name="0,3363,s%253D1%2526i%253D6417,00" descr="100MB Data-Transfer Tests"/>
          <p:cNvPicPr/>
          <p:nvPr/>
        </p:nvPicPr>
        <p:blipFill>
          <a:blip r:embed="rId2"/>
          <a:stretch/>
        </p:blipFill>
        <p:spPr>
          <a:xfrm>
            <a:off x="1338120" y="1903320"/>
            <a:ext cx="6469200" cy="3051360"/>
          </a:xfrm>
          <a:prstGeom prst="rect">
            <a:avLst/>
          </a:prstGeom>
          <a:ln w="0">
            <a:noFill/>
          </a:ln>
        </p:spPr>
      </p:pic>
      <p:pic>
        <p:nvPicPr>
          <p:cNvPr id="156" name="pcmag_logo" descr=""/>
          <p:cNvPicPr/>
          <p:nvPr/>
        </p:nvPicPr>
        <p:blipFill>
          <a:blip r:embed="rId3"/>
          <a:stretch/>
        </p:blipFill>
        <p:spPr>
          <a:xfrm>
            <a:off x="7886880" y="266760"/>
            <a:ext cx="831600" cy="1114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2160" y="53110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n data-transfer testing, we found that the Proxim 802.11a cards were up to about 4.5 times as fast as the 802.11b cards.”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54800" y="5888880"/>
            <a:ext cx="34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C Magazine, December 11, 200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11036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802.11a Spectrum and Channel Allocati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392436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20 MHz channel is divided into 52 carriers (48 carry data, 4 are pilot signals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ll 52 carriers are always used and each carrier is ~300kHz wide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ata rates from 6 Mb/s to 54 Mb/s are supported by varying modulation and error correction coding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65440"/>
            <a:ext cx="3853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719680" y="1990800"/>
            <a:ext cx="315360" cy="1348200"/>
            <a:chOff x="5719680" y="1990800"/>
            <a:chExt cx="315360" cy="1348200"/>
          </a:xfrm>
        </p:grpSpPr>
        <p:sp>
          <p:nvSpPr>
            <p:cNvPr id="163" name=""/>
            <p:cNvSpPr/>
            <p:nvPr/>
          </p:nvSpPr>
          <p:spPr>
            <a:xfrm>
              <a:off x="5720400" y="1990800"/>
              <a:ext cx="31464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968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77000" y="1990800"/>
            <a:ext cx="315360" cy="1348200"/>
            <a:chOff x="5877000" y="1990800"/>
            <a:chExt cx="315360" cy="1348200"/>
          </a:xfrm>
        </p:grpSpPr>
        <p:sp>
          <p:nvSpPr>
            <p:cNvPr id="166" name=""/>
            <p:cNvSpPr/>
            <p:nvPr/>
          </p:nvSpPr>
          <p:spPr>
            <a:xfrm>
              <a:off x="587808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87700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35760" y="1990800"/>
            <a:ext cx="313920" cy="1348200"/>
            <a:chOff x="6035760" y="1990800"/>
            <a:chExt cx="313920" cy="1348200"/>
          </a:xfrm>
        </p:grpSpPr>
        <p:sp>
          <p:nvSpPr>
            <p:cNvPr id="169" name=""/>
            <p:cNvSpPr/>
            <p:nvPr/>
          </p:nvSpPr>
          <p:spPr>
            <a:xfrm>
              <a:off x="603684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3576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92720" y="1990800"/>
            <a:ext cx="313920" cy="1348200"/>
            <a:chOff x="6192720" y="1990800"/>
            <a:chExt cx="313920" cy="1348200"/>
          </a:xfrm>
        </p:grpSpPr>
        <p:sp>
          <p:nvSpPr>
            <p:cNvPr id="172" name=""/>
            <p:cNvSpPr/>
            <p:nvPr/>
          </p:nvSpPr>
          <p:spPr>
            <a:xfrm>
              <a:off x="61938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1927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350040" y="1990800"/>
            <a:ext cx="313920" cy="1348200"/>
            <a:chOff x="6350040" y="1990800"/>
            <a:chExt cx="313920" cy="1348200"/>
          </a:xfrm>
        </p:grpSpPr>
        <p:sp>
          <p:nvSpPr>
            <p:cNvPr id="175" name=""/>
            <p:cNvSpPr/>
            <p:nvPr/>
          </p:nvSpPr>
          <p:spPr>
            <a:xfrm>
              <a:off x="63511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3500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07000" y="1990800"/>
            <a:ext cx="313920" cy="1348200"/>
            <a:chOff x="6507000" y="1990800"/>
            <a:chExt cx="313920" cy="1348200"/>
          </a:xfrm>
        </p:grpSpPr>
        <p:sp>
          <p:nvSpPr>
            <p:cNvPr id="178" name=""/>
            <p:cNvSpPr/>
            <p:nvPr/>
          </p:nvSpPr>
          <p:spPr>
            <a:xfrm>
              <a:off x="6507720" y="19908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507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664320" y="1990800"/>
            <a:ext cx="313920" cy="1348200"/>
            <a:chOff x="6664320" y="1990800"/>
            <a:chExt cx="313920" cy="1348200"/>
          </a:xfrm>
        </p:grpSpPr>
        <p:sp>
          <p:nvSpPr>
            <p:cNvPr id="181" name=""/>
            <p:cNvSpPr/>
            <p:nvPr/>
          </p:nvSpPr>
          <p:spPr>
            <a:xfrm>
              <a:off x="6665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664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821640" y="1990800"/>
            <a:ext cx="313920" cy="1348200"/>
            <a:chOff x="6821640" y="1990800"/>
            <a:chExt cx="313920" cy="1348200"/>
          </a:xfrm>
        </p:grpSpPr>
        <p:sp>
          <p:nvSpPr>
            <p:cNvPr id="184" name=""/>
            <p:cNvSpPr/>
            <p:nvPr/>
          </p:nvSpPr>
          <p:spPr>
            <a:xfrm>
              <a:off x="68227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216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978600" y="1990800"/>
            <a:ext cx="313920" cy="1348200"/>
            <a:chOff x="6978600" y="1990800"/>
            <a:chExt cx="313920" cy="1348200"/>
          </a:xfrm>
        </p:grpSpPr>
        <p:sp>
          <p:nvSpPr>
            <p:cNvPr id="187" name=""/>
            <p:cNvSpPr/>
            <p:nvPr/>
          </p:nvSpPr>
          <p:spPr>
            <a:xfrm>
              <a:off x="69796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786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35920" y="1990800"/>
            <a:ext cx="313920" cy="1348200"/>
            <a:chOff x="7135920" y="1990800"/>
            <a:chExt cx="313920" cy="1348200"/>
          </a:xfrm>
        </p:grpSpPr>
        <p:sp>
          <p:nvSpPr>
            <p:cNvPr id="190" name=""/>
            <p:cNvSpPr/>
            <p:nvPr/>
          </p:nvSpPr>
          <p:spPr>
            <a:xfrm>
              <a:off x="71370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359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158320" y="1990800"/>
            <a:ext cx="313920" cy="1348200"/>
            <a:chOff x="8158320" y="1990800"/>
            <a:chExt cx="313920" cy="1348200"/>
          </a:xfrm>
        </p:grpSpPr>
        <p:sp>
          <p:nvSpPr>
            <p:cNvPr id="193" name=""/>
            <p:cNvSpPr/>
            <p:nvPr/>
          </p:nvSpPr>
          <p:spPr>
            <a:xfrm>
              <a:off x="8159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58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513560" y="1868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764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3520" y="2746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0 MH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2749680"/>
            <a:ext cx="353844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7440" y="14860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52 Carriers tot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6608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001000" y="1990800"/>
            <a:ext cx="313920" cy="1348200"/>
            <a:chOff x="8001000" y="1990800"/>
            <a:chExt cx="313920" cy="1348200"/>
          </a:xfrm>
        </p:grpSpPr>
        <p:sp>
          <p:nvSpPr>
            <p:cNvPr id="202" name=""/>
            <p:cNvSpPr/>
            <p:nvPr/>
          </p:nvSpPr>
          <p:spPr>
            <a:xfrm>
              <a:off x="80020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001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933160" y="3003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One Channel (detai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68200">
            <a:off x="4111200" y="1634760"/>
            <a:ext cx="1533600" cy="3222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44" y="160"/>
                  <a:pt x="88" y="128"/>
                  <a:pt x="144" y="96"/>
                </a:cubicBezTo>
                <a:cubicBezTo>
                  <a:pt x="200" y="64"/>
                  <a:pt x="240" y="0"/>
                  <a:pt x="336" y="0"/>
                </a:cubicBezTo>
                <a:cubicBezTo>
                  <a:pt x="432" y="0"/>
                  <a:pt x="624" y="72"/>
                  <a:pt x="720" y="96"/>
                </a:cubicBezTo>
                <a:cubicBezTo>
                  <a:pt x="816" y="120"/>
                  <a:pt x="880" y="136"/>
                  <a:pt x="912" y="144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1822320"/>
            <a:ext cx="3146400" cy="6098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6280" y="31957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ight channels in lower 5 GHz 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93040" y="2522520"/>
            <a:ext cx="368280" cy="933480"/>
          </a:xfrm>
          <a:custGeom>
            <a:avLst/>
            <a:gdLst/>
            <a:ahLst/>
            <a:rect l="l" t="t" r="r" b="b"/>
            <a:pathLst>
              <a:path w="224" h="672">
                <a:moveTo>
                  <a:pt x="0" y="0"/>
                </a:moveTo>
                <a:cubicBezTo>
                  <a:pt x="80" y="100"/>
                  <a:pt x="160" y="200"/>
                  <a:pt x="192" y="288"/>
                </a:cubicBezTo>
                <a:cubicBezTo>
                  <a:pt x="224" y="376"/>
                  <a:pt x="216" y="464"/>
                  <a:pt x="192" y="528"/>
                </a:cubicBezTo>
                <a:cubicBezTo>
                  <a:pt x="168" y="592"/>
                  <a:pt x="72" y="648"/>
                  <a:pt x="48" y="672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9720" y="339084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Each carrier is ~300kHz w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96920" y="1906560"/>
            <a:ext cx="4595400" cy="1285920"/>
            <a:chOff x="196920" y="1906560"/>
            <a:chExt cx="4595400" cy="1285920"/>
          </a:xfrm>
        </p:grpSpPr>
        <p:sp>
          <p:nvSpPr>
            <p:cNvPr id="211" name=""/>
            <p:cNvSpPr/>
            <p:nvPr/>
          </p:nvSpPr>
          <p:spPr>
            <a:xfrm>
              <a:off x="417600" y="2736720"/>
              <a:ext cx="40878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3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80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61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382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5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179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14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52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972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52320" y="2074680"/>
              <a:ext cx="785160" cy="927360"/>
              <a:chOff x="652320" y="2074680"/>
              <a:chExt cx="785160" cy="927360"/>
            </a:xfrm>
          </p:grpSpPr>
          <p:sp>
            <p:nvSpPr>
              <p:cNvPr id="223" name=""/>
              <p:cNvSpPr/>
              <p:nvPr/>
            </p:nvSpPr>
            <p:spPr>
              <a:xfrm flipH="1">
                <a:off x="652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87760" y="2074680"/>
                <a:ext cx="313920" cy="262800"/>
                <a:chOff x="887760" y="2074680"/>
                <a:chExt cx="313920" cy="26280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887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1201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942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67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046160" y="2074680"/>
              <a:ext cx="785160" cy="927360"/>
              <a:chOff x="1046160" y="2074680"/>
              <a:chExt cx="785160" cy="927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046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81600" y="2074680"/>
                <a:ext cx="313920" cy="262800"/>
                <a:chOff x="1281600" y="2074680"/>
                <a:chExt cx="313920" cy="26280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1281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5955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28808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61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438200" y="2074680"/>
              <a:ext cx="786240" cy="927360"/>
              <a:chOff x="1438200" y="2074680"/>
              <a:chExt cx="786240" cy="92736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820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674000" y="2074680"/>
                <a:ext cx="314280" cy="262800"/>
                <a:chOff x="1674000" y="2074680"/>
                <a:chExt cx="314280" cy="26280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1674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19882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8048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75356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832040" y="2074680"/>
              <a:ext cx="785160" cy="927360"/>
              <a:chOff x="1832040" y="2074680"/>
              <a:chExt cx="785160" cy="92736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1832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067480" y="2074680"/>
                <a:ext cx="313920" cy="262800"/>
                <a:chOff x="2067480" y="2074680"/>
                <a:chExt cx="313920" cy="26280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20674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3814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0739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147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25520" y="2074680"/>
              <a:ext cx="785160" cy="927360"/>
              <a:chOff x="2225520" y="2074680"/>
              <a:chExt cx="785160" cy="92736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2225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460960" y="2074680"/>
                <a:ext cx="313920" cy="262800"/>
                <a:chOff x="2460960" y="2074680"/>
                <a:chExt cx="313920" cy="26280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24609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7748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4674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2540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617920" y="2074680"/>
              <a:ext cx="786240" cy="927360"/>
              <a:chOff x="2617920" y="2074680"/>
              <a:chExt cx="786240" cy="92736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261792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2853720" y="2074680"/>
                <a:ext cx="314280" cy="262800"/>
                <a:chOff x="2853720" y="2074680"/>
                <a:chExt cx="314280" cy="262800"/>
              </a:xfrm>
            </p:grpSpPr>
            <p:sp>
              <p:nvSpPr>
                <p:cNvPr id="260" name=""/>
                <p:cNvSpPr/>
                <p:nvPr/>
              </p:nvSpPr>
              <p:spPr>
                <a:xfrm flipV="1">
                  <a:off x="28537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3168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020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293328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011400" y="2074680"/>
              <a:ext cx="785160" cy="927360"/>
              <a:chOff x="3011400" y="2074680"/>
              <a:chExt cx="785160" cy="9273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011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246840" y="2074680"/>
                <a:ext cx="313920" cy="262800"/>
                <a:chOff x="3246840" y="2074680"/>
                <a:chExt cx="313920" cy="2628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324684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3560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25332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326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405240" y="2074680"/>
              <a:ext cx="785160" cy="927360"/>
              <a:chOff x="3405240" y="2074680"/>
              <a:chExt cx="785160" cy="92736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3405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640680" y="2074680"/>
                <a:ext cx="313920" cy="262800"/>
                <a:chOff x="3640680" y="2074680"/>
                <a:chExt cx="313920" cy="262800"/>
              </a:xfrm>
            </p:grpSpPr>
            <p:sp>
              <p:nvSpPr>
                <p:cNvPr id="274" name=""/>
                <p:cNvSpPr/>
                <p:nvPr/>
              </p:nvSpPr>
              <p:spPr>
                <a:xfrm flipV="1">
                  <a:off x="3640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3954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6471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3720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562200" y="1906560"/>
              <a:ext cx="471600" cy="3366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9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5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6400" y="273672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50 MHz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9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0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47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4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84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61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2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8428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6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016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OFDM Advantag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Orthogonal Frequency Division Multiplexing (OFDM)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ransmits more data, more reliably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Multi-channel modulation sends a lot of information in a short tim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Higher data rate means greater bandwidth utilization due to reduced on-air time per transmission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orporates Forward Error Correction (FEC) to increase transmission accuracy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uperior multipath tolerance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Over 10x greater tolerance to reflected signals than 802.11b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800 ns delay tolerance for 802.11a vs. 65 ns for 802.11b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reases reliability in challenging environments (offices, warehouses, residences, etc.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052880" y="1155600"/>
            <a:ext cx="4938840" cy="4418280"/>
            <a:chOff x="4052880" y="1155600"/>
            <a:chExt cx="4938840" cy="4418280"/>
          </a:xfrm>
        </p:grpSpPr>
        <p:pic>
          <p:nvPicPr>
            <p:cNvPr id="292" name="!blonde" descr=""/>
            <p:cNvPicPr/>
            <p:nvPr/>
          </p:nvPicPr>
          <p:blipFill>
            <a:blip r:embed="rId1"/>
            <a:stretch/>
          </p:blipFill>
          <p:spPr>
            <a:xfrm>
              <a:off x="6318360" y="3594240"/>
              <a:ext cx="17384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kidslaptop" descr=""/>
            <p:cNvPicPr/>
            <p:nvPr/>
          </p:nvPicPr>
          <p:blipFill>
            <a:blip r:embed="rId2"/>
            <a:stretch/>
          </p:blipFill>
          <p:spPr>
            <a:xfrm>
              <a:off x="6000840" y="1155600"/>
              <a:ext cx="299088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Manso" descr=""/>
            <p:cNvPicPr/>
            <p:nvPr/>
          </p:nvPicPr>
          <p:blipFill>
            <a:blip r:embed="rId3"/>
            <a:stretch/>
          </p:blipFill>
          <p:spPr>
            <a:xfrm>
              <a:off x="5124600" y="2489040"/>
              <a:ext cx="156060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Couple%20front%20cmyk" descr=""/>
            <p:cNvPicPr/>
            <p:nvPr/>
          </p:nvPicPr>
          <p:blipFill>
            <a:blip r:embed="rId4"/>
            <a:stretch/>
          </p:blipFill>
          <p:spPr>
            <a:xfrm>
              <a:off x="4052880" y="3884760"/>
              <a:ext cx="207828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88560" y="2057400"/>
            <a:ext cx="6986520" cy="6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ank you!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n Haa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ctor of Product Marketing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xim Inc.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haase@proxim.co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ww.proxim.com</a:t>
            </a:r>
            <a:br>
              <a:rPr sz="2800"/>
            </a:b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95280"/>
            <a:ext cx="8242200" cy="485136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0066"/>
              </a:gs>
            </a:gsLst>
            <a:lin ang="81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7960" y="330120"/>
            <a:ext cx="86490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ireless Data “Standards” Alphabet Soup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849680" y="1855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7080" y="18432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18302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040" y="1817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95800" y="27068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F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440" y="2643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30480" y="2681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A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76560" y="3379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4960" y="33796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9680" y="3354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P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2880" y="33796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0120" y="40784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I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97160" y="3989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0280" y="4040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3480" y="46116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2600" y="46245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2960" y="459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2360" y="4560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41.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5400" y="51832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95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5440" y="5208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3320" y="51703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5 GHz Frequency Band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4452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Referred to in U.S. as Unlicensed National Information Infrastructure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(U-NII)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vided into three (3) sub-band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Proxim to support low- and mid-band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Low-band (5.15 - 5.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Mid-band (5.25 - 5.3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High-band (5.725 - 5.8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fferent output power limits and antenna type limitations in each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presently certifiable in FCC-based regions and Japan (specific frequency range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Europe 5 GHz band currently reserved for HiperLAN/2-compliant product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Coordination efforts underway between standards and regulatory bodies to certify 802.11a in Europe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1792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Unlicensed 5GHz Spectr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03440" y="1577880"/>
          <a:ext cx="7905600" cy="27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577880"/>
                    <a:ext cx="79056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rot="5400000">
            <a:off x="2628360" y="3860640"/>
            <a:ext cx="203040" cy="1536840"/>
          </a:xfrm>
          <a:custGeom>
            <a:avLst/>
            <a:gdLst>
              <a:gd name="textAreaLeft" fmla="*/ 0 w 203040"/>
              <a:gd name="textAreaRight" fmla="*/ 73440 w 20304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3480" y="47332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l antennas only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588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erformance 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Interference Free 5Ghz - A Clean Ban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440" y="2585880"/>
            <a:ext cx="350532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interference from microwave ovens, Bluetooth, legacy wireless LANs or cordless phon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1243080" y="4970520"/>
            <a:ext cx="3521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5920" y="51073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73360" y="4726080"/>
            <a:ext cx="114120" cy="46044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640" y="4721400"/>
            <a:ext cx="114480" cy="46008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6680" y="5117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7480" y="43549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4800" y="3615120"/>
            <a:ext cx="14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Microwave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Ove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6720" y="28738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S and FH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Wireless LA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97880" y="210240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Cordless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phon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2544120" y="3030480"/>
            <a:ext cx="2616120" cy="6476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ean Ai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HiperLAN/2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ETSI 5 GHz Wireless  Standar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,  OFDM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 54 Mbps, with fallback rates from 36 to 6 Mbp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Efficiency exceeds 50% with small number of users, but declines due to scheduling overhead for large number of users.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Worldwide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DM based QOS architecture good for distribution of high quality video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reduces interference between multiple access point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ransmit Power Control adjusts power to lowest level needed for link qua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orldwide certifiabi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products in the marke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ew developers, no broad suppor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Impact"/>
              </a:rPr>
              <a:t>HiperLAN2 Appears To Be Losing Moment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HiperLAN2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-12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 Narrow"/>
              </a:rPr>
              <a:t>http://news.zdnet.co.uk/story/0,,t284-s2101101,00.htm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Ericsson, one of the leaders of the HiperLAN movement, has pulled out of that effort, effectively signalling its demise before products came to the market in any serious way.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"We see the market as moving to 802.11a. Our focus is on 802.11a now," said an Ericsson spokesman.”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Is this the end of HiperLAN2?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IEEE 802.11a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The NEXT  Enterprise Wireless LAN Winner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;   OFDM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Channels:  12 non-overlapping (4 in each of three bands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54 Mbps standard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Proxim 2X mode: 108 Mbps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  23 Mbps @ 54 Mbps standard rate                      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34 Mbps @ Proxim 108 Mbps rat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US and Japan;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urope will be addressed through 802 .11h propos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ireless can compete in speed/capacity with wired solution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voids interference from microwave ovens, cordless phon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and Transmit Power Control must be added to sell products in Europ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58920" y="3214800"/>
          <a:ext cx="5156280" cy="31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3214800"/>
                    <a:ext cx="51562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392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802.11a Fast Wireless Ethernet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15560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Up to 100 Mbps wireless networking in conference rooms, classrooms, public hot-spot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Selectable between 802.11a mode for interoperability up to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54 Mbps, and 2X for data rates up to 108 Mbp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xample usage scenario: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Two high-quality video streams (~10 Mbps) + Four high-quality audio streams (~1 Mbps) + ~14 Mbps for data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571400" y="38250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6000" y="50317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9160" y="3801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84520" y="3788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507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65960" y="3359160"/>
            <a:ext cx="1092240" cy="431640"/>
          </a:xfrm>
          <a:prstGeom prst="wedgeRectCallout">
            <a:avLst>
              <a:gd name="adj1" fmla="val -138083"/>
              <a:gd name="adj2" fmla="val 84560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xim 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X mode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6:06:58Z</dcterms:created>
  <dc:creator>Lynn Chroust</dc:creator>
  <dc:description/>
  <cp:keywords>AP-III</cp:keywords>
  <dc:language>en-US</dc:language>
  <cp:lastModifiedBy>Ken Haase</cp:lastModifiedBy>
  <cp:lastPrinted>2001-10-25T18:06:09Z</cp:lastPrinted>
  <dcterms:modified xsi:type="dcterms:W3CDTF">2002-02-09T21:36:31Z</dcterms:modified>
  <cp:revision>57</cp:revision>
  <dc:subject>AP-III</dc:subject>
  <dc:title>In-Building Wireless: Current In-Building Wireless Connectivity and Future Standards</dc:title>
</cp:coreProperties>
</file>