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E78805-BB64-40B3-BFE8-C2DFD7663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53C57-BB3F-40AB-83EE-090ACC699C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F3DB63E5-DA21-463E-B2CA-6534F92E52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71EA7BBE-7E0A-45B8-955C-0AAC5C1378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D90050A-29C2-451C-9027-8DB4D94D0C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44E292-9D19-4733-B5FC-58B41D6FEC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ADB805-AD8F-4F6B-8B78-F51D41E1D2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83C258-EE10-4D69-B21B-9D4F10CD63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F18BC1B3-DE4B-4306-BED4-5D33B3E36B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99062313-693D-49EE-8EDC-54E22B4376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8ABE3381-B5D5-478B-B616-C0A1838023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A31E0A9-95D9-4926-9851-9B2354B538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D2D6DE0-019C-44B1-9D7F-D6B798D944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0214376-CD3C-4D61-B54E-F45A040A69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4CA682D-175C-45F4-83B8-904F304276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6F2D9FEF-66BA-41C0-B991-3625638B60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247B106B-12A2-4410-BDB3-3EA252FAB2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3093FC19-13BE-4788-A4FD-2910B71ABE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DE44638-C935-416E-AE11-7750E5F586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24CB8BA-C4FB-4528-BE1D-A7065CA20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9AA9514C-1BDC-46CA-A385-25541548E0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086A8786-2F32-4D99-A435-71E35B7CBD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76B9588-BB73-42C8-AD03-04A15FE4D7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C240C4D-D3A2-4C15-AAF0-67B8C9A45B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5252DC9-CCA5-429B-A839-9892B5681B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103E-F5A7-45D5-80DE-520EAEAD61E8}"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607F-981F-418B-88DC-99DC146485BC}"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48AD-C1F0-4044-A9F3-BDEB341A82E9}" type="datetime3">
              <a:rPr b="0" lang="en-US" sz="2800" spc="-1" strike="noStrike">
                <a:solidFill>
                  <a:srgbClr val="ffffff"/>
                </a:solidFill>
                <a:latin typeface="Arial"/>
              </a:rPr>
              <a:t>July 31,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A59F30-1C60-48C9-A728-38FB0EC5ACF7}"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2960C5D-2664-494A-B5A3-39E72CC9B3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A808905F-59F2-4617-9017-10EA67BC56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8605095-0C65-4890-A330-C8DE2FED75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54E1335-E7F6-406F-8C95-D23EFE4094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64915A0-EA95-416B-BD21-F51EF3DD09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0542485-1A03-41E0-98C3-A72DB1D069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9DA11F1-2B28-47B8-9072-258237826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2F469EE-D8B7-4F4E-8CD5-655AE8EAF8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E504E53-6BB5-478B-8352-8040584B8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BEE8398-4182-4F84-8C8B-B9D4E26AE7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E7D937F7-E70C-443B-806E-4B587D5AA6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B837001-E516-48D8-A276-EEBCC816D9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7D695E8E-008E-4ACC-9B58-9570B8124B8C}"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2315B41-5130-464D-AE83-728A990D17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694C3A40-6D0C-4C09-A8E2-3A3C1A8717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9CC301E1-59F1-420D-899C-624B4E8021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B735E76-E961-4D08-B527-FAADB3C080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BCFA1A35-5C13-413B-A3F8-162B470F8D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3D37F48-4854-4060-9B09-FC7FAF7FAA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4AA011F-8DEF-4560-98C7-6768DECDB8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