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4096-AD56-48A5-BC84-799C7BF1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B46D-B278-496F-9A17-8D44F993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39B1-84AD-4F60-BDAE-9DCAA2C5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D0EC-5AE5-487D-8B9C-CD85A088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4C2F-706E-4B18-A501-6B38BEBE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077-6661-40D4-80E3-CAE4690D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4CE4-E638-4BBE-B754-B429C32E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C803-0ADD-4678-A55B-E38115AE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A900-CC98-4073-810D-0B8D02E5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F937-7A5A-4DE3-8633-09F2E00D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511B-F14E-410C-A927-24EE2941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EA09-92CD-4E62-9E82-C153A0B4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DB49-D55F-4687-BF1C-4C5F77B874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3086280" y="6248520"/>
            <a:ext cx="2962080" cy="45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ecurity in Wireless Networ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ES- based encryption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70,000,000,000,000,000 (seventy quadrillion) possible keys of 56 b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 key by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dom key cre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que set of keys per li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Issues Encountered by airBand Custom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exclusive to wireless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uses or Wor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romised Ser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hancements to Customer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-to-End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F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 Layer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rus Sc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e to work with vendors to keep security enhancements on the roadm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ucate the customer to be security conscio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U.S. computer systems are increasingly vulnerable to cyber attacks, partly because companies are not implementing security measures already available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xperts estimate U.S. corporations spent about $12.3 billion to clean up damage from computer viruses in 2001. Some predict viruses and worms could cause even more damage in 2002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Sourc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mputer Science and Telecommunications Bo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"Cybersecurity Today and Tomorrow: Pay Now or Pay Later“  January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Band network 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concerns of wireless net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features of different radios in the unlicensed and licensed frequen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sues airBand has encounte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options to improve customers network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rBand Networ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newnetdias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8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Concer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rised Dat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vesdro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ruption of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uption / Loss of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Building Ac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tricted Roof Acces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Faci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 Securit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ked Cabin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oyee Identification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rambl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rietary Air Interface (Non- Standardiz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namic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Sequence Spread Spectrum (DSSS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-specific Management / Configur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ryption keys for secret access password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 transmission 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rrow antenna b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k I.D. passwo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20:42:33Z</dcterms:created>
  <dc:creator>Amy</dc:creator>
  <dc:description/>
  <dc:language>en-US</dc:language>
  <cp:lastModifiedBy>mbinder</cp:lastModifiedBy>
  <dcterms:modified xsi:type="dcterms:W3CDTF">2002-02-08T19:27:19Z</dcterms:modified>
  <cp:revision>37</cp:revision>
  <dc:subject/>
  <dc:title>The Challenges of Differentiating Wireless Services </dc:title>
</cp:coreProperties>
</file>